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4.wmf" ContentType="image/x-wmf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679-FBCE-485A-A18E-DEF364CA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CFD-903D-4E78-B797-A170D4B5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E4A-3C13-4334-B62E-D301FAB3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B2A-E81E-422D-84AF-A4C24A9F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7ED-4975-498A-8512-F5DE0A18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AED-E10B-4E1E-8356-19566FD3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25D-8631-4965-9B62-0D7202B3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49B-188B-47ED-B107-222138DC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5923-98FA-4A25-8FC7-12B08AB8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833-BF5F-46A1-B5A8-A2A11ED6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7EC5-5556-4961-88C0-0E74BD20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C29-75BE-4AD3-91C0-4D6386B8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C89E-AA06-41CB-9B8B-9FFC1939C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ibliotecas de Comunicação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PI e PV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to Simões Sil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NCC - CNP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sr@lncc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L: www.lncc.br/~rssr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hplncc" descr=""/>
          <p:cNvPicPr/>
          <p:nvPr/>
        </p:nvPicPr>
        <p:blipFill>
          <a:blip r:embed="rId1"/>
          <a:stretch/>
        </p:blipFill>
        <p:spPr>
          <a:xfrm>
            <a:off x="7305840" y="0"/>
            <a:ext cx="183816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74360" y="6400800"/>
            <a:ext cx="20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NCC 04/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m simular o modelo Master-S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362320" y="1257480"/>
            <a:ext cx="4952880" cy="5333760"/>
            <a:chOff x="2362320" y="1257480"/>
            <a:chExt cx="4952880" cy="5333760"/>
          </a:xfrm>
        </p:grpSpPr>
        <p:sp>
          <p:nvSpPr>
            <p:cNvPr id="182" name=""/>
            <p:cNvSpPr/>
            <p:nvPr/>
          </p:nvSpPr>
          <p:spPr>
            <a:xfrm>
              <a:off x="2649240" y="1485720"/>
              <a:ext cx="456984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If ( sou master) t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leitura dos 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partição dos 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envia os 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recebe os “seus” 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end 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inicia a tare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2320" y="1257480"/>
              <a:ext cx="4952880" cy="5333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lanceamento de Car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vm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ermite realizar um balanceamneto de car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do-se as velocidades das má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i disparar mais processos nas máquinas mais ráp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where, ntask, t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e ao usuário a dividir as taref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/ Rece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(por etap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cial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047320" y="3505320"/>
            <a:ext cx="54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VMFINITSEND (PVMDEFAULT,ibuf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2041560" y="4492800"/>
          <a:ext cx="5286240" cy="16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1560" y="4492800"/>
                    <a:ext cx="528624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/ Rece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pacot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359000" y="3048120"/>
            <a:ext cx="70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VMFPACK (what, address, count, stride, inf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12000" y="5257800"/>
            <a:ext cx="41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VMFSEND (tid, tag, inf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empaco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045520" y="2895480"/>
            <a:ext cx="47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VMFRECV (source, tag, inf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60080" y="4786200"/>
            <a:ext cx="755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VMFUNPACK (what, address, count, stride, inf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unicação Glob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21840" y="5149800"/>
            <a:ext cx="717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VMFREDUCE (func, address, count, datatyp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ag, group, root, inf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00680" y="2171880"/>
            <a:ext cx="2133720" cy="1776240"/>
          </a:xfrm>
          <a:prstGeom prst="wedgeRectCallout">
            <a:avLst>
              <a:gd name="adj1" fmla="val -76787"/>
              <a:gd name="adj2" fmla="val 1161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6935760" y="2362320"/>
          <a:ext cx="166212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5760" y="2362320"/>
                    <a:ext cx="166212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"/>
          <p:cNvSpPr/>
          <p:nvPr/>
        </p:nvSpPr>
        <p:spPr>
          <a:xfrm>
            <a:off x="1372320" y="3429000"/>
            <a:ext cx="53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VMFMCAST (ntask,tids,tag,info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mpen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itS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ita copias memória-para-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 codif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ectRoute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vmfsetop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g direto task-to-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ão escalonável, limitado a 60 ligações no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PI A Portable Parallel Programming with the Message-Passing Interface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. Gropp, E. Lusk,  A. Skjellum, 1995 MIT 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I: The Complete Refere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M. Snir, S. Otto, S. Huss-Lederman, D. Walker,  J. Dongarra, MIT Press http://www-unix.mcs.anl.gov/mpi/learning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VM: Parallel Virtual Machine, A Users’ Guide and Tutorial for Networked Parallel Computing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 Geist et all http://www.netlib.org/pvm3/book/pvm-book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-unix.mcs.anl.gov/mpi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V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epm.ornl.gov/pv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delos Híbrid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host - n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 combi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 um mestre para contr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escravos  podem realizar uma mesma tare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escravos conversam entre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m modelos com mais de um ní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7358040" y="703440"/>
            <a:ext cx="561600" cy="5295960"/>
            <a:chOff x="7358040" y="703440"/>
            <a:chExt cx="561600" cy="5295960"/>
          </a:xfrm>
        </p:grpSpPr>
        <p:cxnSp>
          <p:nvCxnSpPr>
            <p:cNvPr id="186" name=""/>
            <p:cNvCxnSpPr/>
            <p:nvPr/>
          </p:nvCxnSpPr>
          <p:spPr>
            <a:xfrm>
              <a:off x="7358040" y="703440"/>
              <a:ext cx="2160" cy="1334160"/>
            </a:xfrm>
            <a:prstGeom prst="curvedConnector5">
              <a:avLst>
                <a:gd name="adj1" fmla="val 31200000"/>
                <a:gd name="adj2" fmla="val 49986"/>
                <a:gd name="adj3" fmla="val 31200000"/>
              </a:avLst>
            </a:prstGeom>
            <a:ln w="9360">
              <a:solidFill>
                <a:srgbClr val="ff0000"/>
              </a:solidFill>
              <a:miter/>
              <a:headEnd len="lg" type="triangle" w="med"/>
              <a:tailEnd len="lg" type="triangle" w="med"/>
            </a:ln>
          </p:spPr>
        </p:cxnSp>
        <p:cxnSp>
          <p:nvCxnSpPr>
            <p:cNvPr id="187" name=""/>
            <p:cNvCxnSpPr/>
            <p:nvPr/>
          </p:nvCxnSpPr>
          <p:spPr>
            <a:xfrm>
              <a:off x="7358040" y="1998720"/>
              <a:ext cx="2160" cy="1334160"/>
            </a:xfrm>
            <a:prstGeom prst="curvedConnector5">
              <a:avLst>
                <a:gd name="adj1" fmla="val 31200000"/>
                <a:gd name="adj2" fmla="val 49986"/>
                <a:gd name="adj3" fmla="val 31200000"/>
              </a:avLst>
            </a:prstGeom>
            <a:ln w="9360">
              <a:solidFill>
                <a:srgbClr val="ff0000"/>
              </a:solidFill>
              <a:miter/>
              <a:headEnd len="lg" type="triangle" w="med"/>
              <a:tailEnd len="lg" type="triangle" w="med"/>
            </a:ln>
          </p:spPr>
        </p:cxnSp>
        <p:cxnSp>
          <p:nvCxnSpPr>
            <p:cNvPr id="188" name=""/>
            <p:cNvCxnSpPr/>
            <p:nvPr/>
          </p:nvCxnSpPr>
          <p:spPr>
            <a:xfrm>
              <a:off x="7358040" y="3294000"/>
              <a:ext cx="2160" cy="1334160"/>
            </a:xfrm>
            <a:prstGeom prst="curvedConnector5">
              <a:avLst>
                <a:gd name="adj1" fmla="val 31200000"/>
                <a:gd name="adj2" fmla="val 49986"/>
                <a:gd name="adj3" fmla="val 31200000"/>
              </a:avLst>
            </a:prstGeom>
            <a:ln w="9360">
              <a:solidFill>
                <a:srgbClr val="ff0000"/>
              </a:solidFill>
              <a:miter/>
              <a:headEnd len="lg" type="triangle" w="med"/>
              <a:tailEnd len="lg" type="triangle" w="med"/>
            </a:ln>
          </p:spPr>
        </p:cxnSp>
        <p:cxnSp>
          <p:nvCxnSpPr>
            <p:cNvPr id="189" name=""/>
            <p:cNvCxnSpPr/>
            <p:nvPr/>
          </p:nvCxnSpPr>
          <p:spPr>
            <a:xfrm>
              <a:off x="7358040" y="4665600"/>
              <a:ext cx="2160" cy="1334160"/>
            </a:xfrm>
            <a:prstGeom prst="curvedConnector5">
              <a:avLst>
                <a:gd name="adj1" fmla="val 31200000"/>
                <a:gd name="adj2" fmla="val 49986"/>
                <a:gd name="adj3" fmla="val 31200000"/>
              </a:avLst>
            </a:prstGeom>
            <a:ln w="9360">
              <a:solidFill>
                <a:srgbClr val="ff0000"/>
              </a:solidFill>
              <a:miter/>
              <a:headEnd len="lg" type="triangle" w="med"/>
              <a:tailEnd len="lg" type="triangle" w="med"/>
            </a:ln>
          </p:spPr>
        </p:cxnSp>
      </p:grpSp>
      <p:sp>
        <p:nvSpPr>
          <p:cNvPr id="190" name=""/>
          <p:cNvSpPr/>
          <p:nvPr/>
        </p:nvSpPr>
        <p:spPr>
          <a:xfrm>
            <a:off x="3144960" y="3103560"/>
            <a:ext cx="685800" cy="6858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906720" y="817560"/>
            <a:ext cx="2210040" cy="22096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983040" y="2188800"/>
            <a:ext cx="220968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83040" y="3484440"/>
            <a:ext cx="2209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83040" y="3713040"/>
            <a:ext cx="220968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30760" y="3941640"/>
            <a:ext cx="236196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383160" y="360360"/>
            <a:ext cx="685800" cy="685800"/>
            <a:chOff x="6383160" y="360360"/>
            <a:chExt cx="685800" cy="685800"/>
          </a:xfrm>
        </p:grpSpPr>
        <p:sp>
          <p:nvSpPr>
            <p:cNvPr id="197" name=""/>
            <p:cNvSpPr/>
            <p:nvPr/>
          </p:nvSpPr>
          <p:spPr>
            <a:xfrm>
              <a:off x="6383160" y="360360"/>
              <a:ext cx="685800" cy="68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61280" y="4363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383160" y="3027240"/>
            <a:ext cx="685800" cy="685800"/>
            <a:chOff x="6383160" y="3027240"/>
            <a:chExt cx="685800" cy="685800"/>
          </a:xfrm>
        </p:grpSpPr>
        <p:sp>
          <p:nvSpPr>
            <p:cNvPr id="200" name=""/>
            <p:cNvSpPr/>
            <p:nvPr/>
          </p:nvSpPr>
          <p:spPr>
            <a:xfrm>
              <a:off x="6383160" y="3027240"/>
              <a:ext cx="685800" cy="68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61280" y="31032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383160" y="4361040"/>
            <a:ext cx="685800" cy="685800"/>
            <a:chOff x="6383160" y="4361040"/>
            <a:chExt cx="685800" cy="685800"/>
          </a:xfrm>
        </p:grpSpPr>
        <p:sp>
          <p:nvSpPr>
            <p:cNvPr id="203" name=""/>
            <p:cNvSpPr/>
            <p:nvPr/>
          </p:nvSpPr>
          <p:spPr>
            <a:xfrm>
              <a:off x="6383160" y="4361040"/>
              <a:ext cx="685800" cy="68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61280" y="44370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383160" y="1693800"/>
            <a:ext cx="685800" cy="685800"/>
            <a:chOff x="6383160" y="1693800"/>
            <a:chExt cx="685800" cy="685800"/>
          </a:xfrm>
        </p:grpSpPr>
        <p:sp>
          <p:nvSpPr>
            <p:cNvPr id="206" name=""/>
            <p:cNvSpPr/>
            <p:nvPr/>
          </p:nvSpPr>
          <p:spPr>
            <a:xfrm>
              <a:off x="6383160" y="1693800"/>
              <a:ext cx="685800" cy="68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61280" y="17697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383160" y="5694480"/>
            <a:ext cx="685800" cy="685800"/>
            <a:chOff x="6383160" y="5694480"/>
            <a:chExt cx="685800" cy="685800"/>
          </a:xfrm>
        </p:grpSpPr>
        <p:sp>
          <p:nvSpPr>
            <p:cNvPr id="209" name=""/>
            <p:cNvSpPr/>
            <p:nvPr/>
          </p:nvSpPr>
          <p:spPr>
            <a:xfrm>
              <a:off x="6383160" y="5694480"/>
              <a:ext cx="685800" cy="68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61280" y="577044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443320" y="264636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8000" y="23796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 -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068600" y="436680"/>
            <a:ext cx="1578960" cy="5790960"/>
            <a:chOff x="7068600" y="436680"/>
            <a:chExt cx="1578960" cy="5790960"/>
          </a:xfrm>
        </p:grpSpPr>
        <p:sp>
          <p:nvSpPr>
            <p:cNvPr id="214" name=""/>
            <p:cNvSpPr/>
            <p:nvPr/>
          </p:nvSpPr>
          <p:spPr>
            <a:xfrm>
              <a:off x="7358040" y="436680"/>
              <a:ext cx="566640" cy="57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7068600" y="665280"/>
              <a:ext cx="1578960" cy="5333760"/>
              <a:chOff x="7068600" y="665280"/>
              <a:chExt cx="1578960" cy="5333760"/>
            </a:xfrm>
          </p:grpSpPr>
          <p:cxnSp>
            <p:nvCxnSpPr>
              <p:cNvPr id="216" name=""/>
              <p:cNvCxnSpPr>
                <a:stCxn id="200" idx="6"/>
                <a:endCxn id="197" idx="6"/>
              </p:cNvCxnSpPr>
              <p:nvPr/>
            </p:nvCxnSpPr>
            <p:spPr>
              <a:xfrm flipV="1">
                <a:off x="7068600" y="665280"/>
                <a:ext cx="2520" cy="2667240"/>
              </a:xfrm>
              <a:prstGeom prst="curvedConnector5">
                <a:avLst>
                  <a:gd name="adj1" fmla="val 73100000"/>
                  <a:gd name="adj2" fmla="val 50000"/>
                  <a:gd name="adj3" fmla="val 731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17" name=""/>
              <p:cNvCxnSpPr>
                <a:stCxn id="200" idx="6"/>
                <a:endCxn id="206" idx="6"/>
              </p:cNvCxnSpPr>
              <p:nvPr/>
            </p:nvCxnSpPr>
            <p:spPr>
              <a:xfrm flipV="1">
                <a:off x="7068600" y="1998360"/>
                <a:ext cx="2520" cy="1334160"/>
              </a:xfrm>
              <a:prstGeom prst="curvedConnector5">
                <a:avLst>
                  <a:gd name="adj1" fmla="val 43100000"/>
                  <a:gd name="adj2" fmla="val 49986"/>
                  <a:gd name="adj3" fmla="val 431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18" name=""/>
              <p:cNvCxnSpPr>
                <a:stCxn id="200" idx="6"/>
                <a:endCxn id="203" idx="6"/>
              </p:cNvCxnSpPr>
              <p:nvPr/>
            </p:nvCxnSpPr>
            <p:spPr>
              <a:xfrm>
                <a:off x="7068600" y="3332160"/>
                <a:ext cx="2520" cy="1334160"/>
              </a:xfrm>
              <a:prstGeom prst="curvedConnector5">
                <a:avLst>
                  <a:gd name="adj1" fmla="val 40800000"/>
                  <a:gd name="adj2" fmla="val 49986"/>
                  <a:gd name="adj3" fmla="val 408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19" name=""/>
              <p:cNvCxnSpPr>
                <a:stCxn id="200" idx="6"/>
                <a:endCxn id="209" idx="6"/>
              </p:cNvCxnSpPr>
              <p:nvPr/>
            </p:nvCxnSpPr>
            <p:spPr>
              <a:xfrm>
                <a:off x="7068600" y="3332160"/>
                <a:ext cx="2520" cy="2667240"/>
              </a:xfrm>
              <a:prstGeom prst="curvedConnector5">
                <a:avLst>
                  <a:gd name="adj1" fmla="val 67200000"/>
                  <a:gd name="adj2" fmla="val 50000"/>
                  <a:gd name="adj3" fmla="val 672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609480" y="360360"/>
            <a:ext cx="3924360" cy="6019920"/>
            <a:chOff x="609480" y="360360"/>
            <a:chExt cx="3924360" cy="6019920"/>
          </a:xfrm>
        </p:grpSpPr>
        <p:sp>
          <p:nvSpPr>
            <p:cNvPr id="221" name=""/>
            <p:cNvSpPr/>
            <p:nvPr/>
          </p:nvSpPr>
          <p:spPr>
            <a:xfrm>
              <a:off x="609480" y="3103560"/>
              <a:ext cx="685800" cy="685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371600" y="817560"/>
              <a:ext cx="2209680" cy="2209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447920" y="2188800"/>
              <a:ext cx="220968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7920" y="3484440"/>
              <a:ext cx="2209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7920" y="3713040"/>
              <a:ext cx="220968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95280" y="3941640"/>
              <a:ext cx="2362320" cy="2057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848040" y="360360"/>
              <a:ext cx="685800" cy="685800"/>
              <a:chOff x="3848040" y="360360"/>
              <a:chExt cx="685800" cy="685800"/>
            </a:xfrm>
          </p:grpSpPr>
          <p:sp>
            <p:nvSpPr>
              <p:cNvPr id="228" name=""/>
              <p:cNvSpPr/>
              <p:nvPr/>
            </p:nvSpPr>
            <p:spPr>
              <a:xfrm>
                <a:off x="3848040" y="360360"/>
                <a:ext cx="685800" cy="6858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926160" y="43632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848040" y="3027240"/>
              <a:ext cx="685800" cy="685800"/>
              <a:chOff x="3848040" y="3027240"/>
              <a:chExt cx="685800" cy="685800"/>
            </a:xfrm>
          </p:grpSpPr>
          <p:sp>
            <p:nvSpPr>
              <p:cNvPr id="231" name=""/>
              <p:cNvSpPr/>
              <p:nvPr/>
            </p:nvSpPr>
            <p:spPr>
              <a:xfrm>
                <a:off x="3848040" y="3027240"/>
                <a:ext cx="685800" cy="6858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26160" y="31032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848040" y="4361040"/>
              <a:ext cx="685800" cy="685800"/>
              <a:chOff x="3848040" y="4361040"/>
              <a:chExt cx="685800" cy="685800"/>
            </a:xfrm>
          </p:grpSpPr>
          <p:sp>
            <p:nvSpPr>
              <p:cNvPr id="234" name=""/>
              <p:cNvSpPr/>
              <p:nvPr/>
            </p:nvSpPr>
            <p:spPr>
              <a:xfrm>
                <a:off x="3848040" y="4361040"/>
                <a:ext cx="685800" cy="6858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926160" y="44370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48040" y="1693800"/>
              <a:ext cx="685800" cy="685800"/>
              <a:chOff x="3848040" y="1693800"/>
              <a:chExt cx="685800" cy="685800"/>
            </a:xfrm>
          </p:grpSpPr>
          <p:sp>
            <p:nvSpPr>
              <p:cNvPr id="237" name=""/>
              <p:cNvSpPr/>
              <p:nvPr/>
            </p:nvSpPr>
            <p:spPr>
              <a:xfrm>
                <a:off x="3848040" y="1693800"/>
                <a:ext cx="685800" cy="6858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926160" y="176976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848040" y="5694480"/>
              <a:ext cx="685800" cy="685800"/>
              <a:chOff x="3848040" y="5694480"/>
              <a:chExt cx="685800" cy="685800"/>
            </a:xfrm>
          </p:grpSpPr>
          <p:sp>
            <p:nvSpPr>
              <p:cNvPr id="240" name=""/>
              <p:cNvSpPr/>
              <p:nvPr/>
            </p:nvSpPr>
            <p:spPr>
              <a:xfrm>
                <a:off x="3848040" y="5694480"/>
                <a:ext cx="685800" cy="6858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926160" y="577044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2" name=""/>
          <p:cNvSpPr/>
          <p:nvPr/>
        </p:nvSpPr>
        <p:spPr>
          <a:xfrm>
            <a:off x="289080" y="218916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8000" y="23796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 -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400800" y="3027240"/>
            <a:ext cx="685800" cy="685800"/>
            <a:chOff x="6400800" y="3027240"/>
            <a:chExt cx="685800" cy="685800"/>
          </a:xfrm>
        </p:grpSpPr>
        <p:sp>
          <p:nvSpPr>
            <p:cNvPr id="245" name=""/>
            <p:cNvSpPr/>
            <p:nvPr/>
          </p:nvSpPr>
          <p:spPr>
            <a:xfrm>
              <a:off x="6400800" y="3027240"/>
              <a:ext cx="685800" cy="68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78920" y="31032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400800" y="1770120"/>
            <a:ext cx="685800" cy="685800"/>
            <a:chOff x="6400800" y="1770120"/>
            <a:chExt cx="685800" cy="685800"/>
          </a:xfrm>
        </p:grpSpPr>
        <p:sp>
          <p:nvSpPr>
            <p:cNvPr id="248" name=""/>
            <p:cNvSpPr/>
            <p:nvPr/>
          </p:nvSpPr>
          <p:spPr>
            <a:xfrm>
              <a:off x="6400800" y="1770120"/>
              <a:ext cx="685800" cy="68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78920" y="18460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400800" y="4208400"/>
            <a:ext cx="685800" cy="685800"/>
            <a:chOff x="6400800" y="4208400"/>
            <a:chExt cx="685800" cy="685800"/>
          </a:xfrm>
        </p:grpSpPr>
        <p:sp>
          <p:nvSpPr>
            <p:cNvPr id="251" name=""/>
            <p:cNvSpPr/>
            <p:nvPr/>
          </p:nvSpPr>
          <p:spPr>
            <a:xfrm>
              <a:off x="6400800" y="4208400"/>
              <a:ext cx="685800" cy="68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78920" y="42843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24280" y="3332160"/>
            <a:ext cx="16002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24280" y="3560760"/>
            <a:ext cx="1600200" cy="800280"/>
          </a:xfrm>
          <a:prstGeom prst="line">
            <a:avLst/>
          </a:prstGeom>
          <a:ln w="9360">
            <a:solidFill>
              <a:srgbClr val="3333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724280" y="2379240"/>
            <a:ext cx="160020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5000" y="2052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° Ní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87320" y="123660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° Ní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itos Ger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paradigm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ssage-Pa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ar mensagens (S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ber mensagens (Rece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8960" y="4159080"/>
            <a:ext cx="52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s o que é uma mensagem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86280" y="5257800"/>
            <a:ext cx="71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.: É um vetor de elementos do mesmo  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28120" y="3200400"/>
            <a:ext cx="82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SEND (address,length,destination,tag,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86400" y="43434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RECV (address,length,source,tag,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itos Ger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tax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urier New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 o endereço na memória do que vai ser envi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 ser uma área não continu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urier New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tamnho a ser envi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8120" y="685800"/>
            <a:ext cx="82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SEND (address,length,destination,tag,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ar a determinação do tamanh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itar a conversão em sistemas heterogêne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9520" y="4267080"/>
            <a:ext cx="85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SEND (address,length,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datatype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,destination,t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7440" y="495288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RECV (address,length,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datatype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,source,t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733920" y="3048120"/>
            <a:ext cx="2801160" cy="520560"/>
            <a:chOff x="3733920" y="3048120"/>
            <a:chExt cx="2801160" cy="520560"/>
          </a:xfrm>
        </p:grpSpPr>
        <p:sp>
          <p:nvSpPr>
            <p:cNvPr id="272" name=""/>
            <p:cNvSpPr/>
            <p:nvPr/>
          </p:nvSpPr>
          <p:spPr>
            <a:xfrm>
              <a:off x="3733920" y="3200400"/>
              <a:ext cx="671400" cy="228600"/>
            </a:xfrm>
            <a:prstGeom prst="rightArrow">
              <a:avLst>
                <a:gd name="adj1" fmla="val 50000"/>
                <a:gd name="adj2" fmla="val 7342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47600" y="30481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urier New"/>
                </a:rPr>
                <a:t>data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urier New"/>
              </a:rPr>
              <a:t>Dest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ino 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urier New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o da mensag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e lidar com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s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uma forma orde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urier New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ável do controle do er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8120" y="762120"/>
            <a:ext cx="82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SEND (address,length,destination,tag,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erenças Conceitu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V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ado para executar em um sistemas heterogên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abilidade, garantindo o desempe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ú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acterísticas Ger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-Passing Interface (MP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 Virtual Machine (PV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85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Interf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P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MPI -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É um Padrão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istem várias bibliotecas que utilizam esse padr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.: MPICH, LAM, MPI-IBM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órum em 19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PI - 1 19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PI - 2 1997 (06/0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azem parte do fó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niversidad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vm, P4, Zipcode, Chamaleon,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abricantes: Cray, IBM, NEC, Intel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r qu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da fabricante tinha a sua própria biblioteca n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ificultava a portabil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 MPI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rta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arante o melhor desempenho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457200" y="209520"/>
          <a:ext cx="8381880" cy="632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9520"/>
                    <a:ext cx="8381880" cy="63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6477120" y="2514600"/>
                <a:ext cx="20574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unicações ponto-a-po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locantes 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blocking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torna da subrotina somente quando a mensagem for receb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- bloc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. FAX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unicações Globais (coletiv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arreira ( Barri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loqueia até que todos os processadores chegarem até 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processador manda uma msg. para várias destin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Times New Roman"/>
              </a:rPr>
              <a:t>Operações de re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leciona valores em cada proc. e o resultado esta disponível para to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406600" y="3882960"/>
            <a:ext cx="3156120" cy="2467080"/>
          </a:xfrm>
          <a:custGeom>
            <a:avLst/>
            <a:gdLst/>
            <a:ahLst/>
            <a:rect l="l" t="t" r="r" b="b"/>
            <a:pathLst>
              <a:path w="1988" h="1554">
                <a:moveTo>
                  <a:pt x="284" y="1442"/>
                </a:moveTo>
                <a:cubicBezTo>
                  <a:pt x="258" y="1431"/>
                  <a:pt x="228" y="1426"/>
                  <a:pt x="204" y="1410"/>
                </a:cubicBezTo>
                <a:cubicBezTo>
                  <a:pt x="154" y="1377"/>
                  <a:pt x="138" y="1311"/>
                  <a:pt x="76" y="1290"/>
                </a:cubicBezTo>
                <a:cubicBezTo>
                  <a:pt x="65" y="1267"/>
                  <a:pt x="46" y="1249"/>
                  <a:pt x="36" y="1226"/>
                </a:cubicBezTo>
                <a:cubicBezTo>
                  <a:pt x="23" y="1196"/>
                  <a:pt x="17" y="1154"/>
                  <a:pt x="12" y="1122"/>
                </a:cubicBezTo>
                <a:cubicBezTo>
                  <a:pt x="15" y="1041"/>
                  <a:pt x="0" y="813"/>
                  <a:pt x="68" y="722"/>
                </a:cubicBezTo>
                <a:cubicBezTo>
                  <a:pt x="78" y="680"/>
                  <a:pt x="99" y="643"/>
                  <a:pt x="108" y="602"/>
                </a:cubicBezTo>
                <a:cubicBezTo>
                  <a:pt x="118" y="559"/>
                  <a:pt x="120" y="529"/>
                  <a:pt x="140" y="490"/>
                </a:cubicBezTo>
                <a:cubicBezTo>
                  <a:pt x="151" y="422"/>
                  <a:pt x="171" y="379"/>
                  <a:pt x="220" y="330"/>
                </a:cubicBezTo>
                <a:cubicBezTo>
                  <a:pt x="239" y="273"/>
                  <a:pt x="212" y="338"/>
                  <a:pt x="252" y="290"/>
                </a:cubicBezTo>
                <a:cubicBezTo>
                  <a:pt x="265" y="274"/>
                  <a:pt x="288" y="200"/>
                  <a:pt x="292" y="194"/>
                </a:cubicBezTo>
                <a:cubicBezTo>
                  <a:pt x="299" y="183"/>
                  <a:pt x="314" y="179"/>
                  <a:pt x="324" y="170"/>
                </a:cubicBezTo>
                <a:cubicBezTo>
                  <a:pt x="377" y="123"/>
                  <a:pt x="395" y="100"/>
                  <a:pt x="468" y="90"/>
                </a:cubicBezTo>
                <a:cubicBezTo>
                  <a:pt x="567" y="57"/>
                  <a:pt x="683" y="60"/>
                  <a:pt x="788" y="50"/>
                </a:cubicBezTo>
                <a:cubicBezTo>
                  <a:pt x="837" y="45"/>
                  <a:pt x="883" y="31"/>
                  <a:pt x="932" y="26"/>
                </a:cubicBezTo>
                <a:cubicBezTo>
                  <a:pt x="1058" y="13"/>
                  <a:pt x="1218" y="13"/>
                  <a:pt x="1332" y="10"/>
                </a:cubicBezTo>
                <a:cubicBezTo>
                  <a:pt x="1414" y="0"/>
                  <a:pt x="1490" y="16"/>
                  <a:pt x="1572" y="26"/>
                </a:cubicBezTo>
                <a:cubicBezTo>
                  <a:pt x="1587" y="31"/>
                  <a:pt x="1678" y="61"/>
                  <a:pt x="1684" y="66"/>
                </a:cubicBezTo>
                <a:cubicBezTo>
                  <a:pt x="1794" y="167"/>
                  <a:pt x="1630" y="109"/>
                  <a:pt x="1780" y="146"/>
                </a:cubicBezTo>
                <a:cubicBezTo>
                  <a:pt x="1796" y="162"/>
                  <a:pt x="1817" y="174"/>
                  <a:pt x="1828" y="194"/>
                </a:cubicBezTo>
                <a:cubicBezTo>
                  <a:pt x="1914" y="344"/>
                  <a:pt x="1762" y="176"/>
                  <a:pt x="1892" y="306"/>
                </a:cubicBezTo>
                <a:cubicBezTo>
                  <a:pt x="1904" y="376"/>
                  <a:pt x="1925" y="446"/>
                  <a:pt x="1948" y="514"/>
                </a:cubicBezTo>
                <a:cubicBezTo>
                  <a:pt x="1961" y="615"/>
                  <a:pt x="1971" y="717"/>
                  <a:pt x="1988" y="818"/>
                </a:cubicBezTo>
                <a:cubicBezTo>
                  <a:pt x="1985" y="871"/>
                  <a:pt x="1987" y="925"/>
                  <a:pt x="1980" y="978"/>
                </a:cubicBezTo>
                <a:cubicBezTo>
                  <a:pt x="1973" y="1031"/>
                  <a:pt x="1918" y="1047"/>
                  <a:pt x="1884" y="1074"/>
                </a:cubicBezTo>
                <a:cubicBezTo>
                  <a:pt x="1863" y="1090"/>
                  <a:pt x="1847" y="1111"/>
                  <a:pt x="1828" y="1130"/>
                </a:cubicBezTo>
                <a:cubicBezTo>
                  <a:pt x="1811" y="1147"/>
                  <a:pt x="1784" y="1149"/>
                  <a:pt x="1764" y="1162"/>
                </a:cubicBezTo>
                <a:cubicBezTo>
                  <a:pt x="1734" y="1182"/>
                  <a:pt x="1711" y="1219"/>
                  <a:pt x="1676" y="1234"/>
                </a:cubicBezTo>
                <a:cubicBezTo>
                  <a:pt x="1628" y="1254"/>
                  <a:pt x="1567" y="1268"/>
                  <a:pt x="1516" y="1274"/>
                </a:cubicBezTo>
                <a:cubicBezTo>
                  <a:pt x="1469" y="1297"/>
                  <a:pt x="1424" y="1300"/>
                  <a:pt x="1372" y="1306"/>
                </a:cubicBezTo>
                <a:cubicBezTo>
                  <a:pt x="1321" y="1325"/>
                  <a:pt x="1271" y="1343"/>
                  <a:pt x="1220" y="1362"/>
                </a:cubicBezTo>
                <a:cubicBezTo>
                  <a:pt x="1172" y="1410"/>
                  <a:pt x="1124" y="1463"/>
                  <a:pt x="1068" y="1498"/>
                </a:cubicBezTo>
                <a:cubicBezTo>
                  <a:pt x="1057" y="1505"/>
                  <a:pt x="1049" y="1519"/>
                  <a:pt x="1036" y="1522"/>
                </a:cubicBezTo>
                <a:cubicBezTo>
                  <a:pt x="950" y="1541"/>
                  <a:pt x="859" y="1532"/>
                  <a:pt x="772" y="1554"/>
                </a:cubicBezTo>
                <a:cubicBezTo>
                  <a:pt x="675" y="1550"/>
                  <a:pt x="578" y="1554"/>
                  <a:pt x="484" y="1530"/>
                </a:cubicBezTo>
                <a:cubicBezTo>
                  <a:pt x="448" y="1477"/>
                  <a:pt x="393" y="1465"/>
                  <a:pt x="332" y="1458"/>
                </a:cubicBezTo>
                <a:cubicBezTo>
                  <a:pt x="327" y="1454"/>
                  <a:pt x="284" y="1417"/>
                  <a:pt x="284" y="1442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unic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ssibita trabalhar com grupos de pro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urier New"/>
              </a:rPr>
              <a:t>MPI_COMM_WORLD (defaul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971800" y="4191120"/>
            <a:ext cx="533520" cy="533160"/>
            <a:chOff x="2971800" y="4191120"/>
            <a:chExt cx="533520" cy="533160"/>
          </a:xfrm>
        </p:grpSpPr>
        <p:sp>
          <p:nvSpPr>
            <p:cNvPr id="296" name=""/>
            <p:cNvSpPr/>
            <p:nvPr/>
          </p:nvSpPr>
          <p:spPr>
            <a:xfrm>
              <a:off x="2971800" y="419112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72240" y="4191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743200" y="5105520"/>
            <a:ext cx="533520" cy="533160"/>
            <a:chOff x="2743200" y="5105520"/>
            <a:chExt cx="533520" cy="533160"/>
          </a:xfrm>
        </p:grpSpPr>
        <p:sp>
          <p:nvSpPr>
            <p:cNvPr id="299" name=""/>
            <p:cNvSpPr/>
            <p:nvPr/>
          </p:nvSpPr>
          <p:spPr>
            <a:xfrm>
              <a:off x="2743200" y="510552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43640" y="5105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657600" y="5562720"/>
            <a:ext cx="533520" cy="533160"/>
            <a:chOff x="3657600" y="5562720"/>
            <a:chExt cx="533520" cy="533160"/>
          </a:xfrm>
        </p:grpSpPr>
        <p:sp>
          <p:nvSpPr>
            <p:cNvPr id="302" name=""/>
            <p:cNvSpPr/>
            <p:nvPr/>
          </p:nvSpPr>
          <p:spPr>
            <a:xfrm>
              <a:off x="3657600" y="556272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58040" y="556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191120" y="4038480"/>
            <a:ext cx="533160" cy="533520"/>
            <a:chOff x="4191120" y="4038480"/>
            <a:chExt cx="533160" cy="533520"/>
          </a:xfrm>
        </p:grpSpPr>
        <p:sp>
          <p:nvSpPr>
            <p:cNvPr id="305" name=""/>
            <p:cNvSpPr/>
            <p:nvPr/>
          </p:nvSpPr>
          <p:spPr>
            <a:xfrm>
              <a:off x="4191120" y="4038480"/>
              <a:ext cx="53316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90840" y="403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572000" y="5181480"/>
            <a:ext cx="533520" cy="533520"/>
            <a:chOff x="4572000" y="5181480"/>
            <a:chExt cx="533520" cy="533520"/>
          </a:xfrm>
        </p:grpSpPr>
        <p:sp>
          <p:nvSpPr>
            <p:cNvPr id="308" name=""/>
            <p:cNvSpPr/>
            <p:nvPr/>
          </p:nvSpPr>
          <p:spPr>
            <a:xfrm>
              <a:off x="4572000" y="5181480"/>
              <a:ext cx="5335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72440" y="5181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809880" y="4724280"/>
            <a:ext cx="533520" cy="533520"/>
            <a:chOff x="3809880" y="4724280"/>
            <a:chExt cx="533520" cy="533520"/>
          </a:xfrm>
        </p:grpSpPr>
        <p:sp>
          <p:nvSpPr>
            <p:cNvPr id="311" name=""/>
            <p:cNvSpPr/>
            <p:nvPr/>
          </p:nvSpPr>
          <p:spPr>
            <a:xfrm>
              <a:off x="3809880" y="4724280"/>
              <a:ext cx="5335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1032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5564880" y="44956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gramas em MPI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427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 ou Fortran 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ortran 90 (MPI-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PI-1 Básico               6 funções (total de 125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clusão de 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#include &lt;mpi.h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clude mpif.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9880" y="33526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unçõe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icializ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urier New"/>
              </a:rPr>
              <a:t>call MPI_INIT(ier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ali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urier New"/>
              </a:rPr>
              <a:t>call MPI_FINALIZE (ier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btendo informações do comunic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ama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urier New"/>
              </a:rPr>
              <a:t>call MPI_COMM_SIZE(comm,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urier New"/>
              </a:rPr>
              <a:t>call MPI_COMM_RANK(comm,r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bliotecas desenvolvidas para o paradigma de programaçã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ssage-Pas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(Passagem de Mensag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quite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ória Distribuí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dência de mercado - máq. paralelas e sistemas distribuí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ória Compartilhada (Shared Mem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unicação Ponto -a- Po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838080" y="2516040"/>
          <a:ext cx="7753320" cy="40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6040"/>
                    <a:ext cx="775332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Padr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 começar independente do REC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loca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ó retorna quando a mensagem for recebida pelo destinat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sg está salva e o buffer do sistema pode ser re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5400" y="5089680"/>
            <a:ext cx="85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MPI_SEND (address,length,datatype,destin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tag,comunicador,ie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412920" y="1523880"/>
          <a:ext cx="8731080" cy="24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1523880"/>
                    <a:ext cx="87310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415800" y="4714920"/>
            <a:ext cx="64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: O programa sempre vai efetuar a tro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msg. corre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0760" y="17136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: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16520" y="4714920"/>
            <a:ext cx="58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 RECV é sempre bloc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programa vai trancar (deadlo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760" y="17136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: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0" y="1371600"/>
          <a:ext cx="914400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14400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-54000" y="2765520"/>
          <a:ext cx="9198000" cy="127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4000" y="2765520"/>
                    <a:ext cx="919800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17600" y="4714920"/>
            <a:ext cx="68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: So funcionará se for possível armazen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 outro 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unt*MPI_RE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ão o programa vai trancar (deadlo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0760" y="17136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76120" y="1503360"/>
          <a:ext cx="859176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503360"/>
                    <a:ext cx="859176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Síncro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ó começa quando o RECV é alcanç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e que o destinatário começou a receber a ms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5400" y="4267080"/>
            <a:ext cx="877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MPI_SSEND (address,length,datatype,destin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tag,comunicador,ie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ed S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usuário define um buffer a ser uti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programa não precisa ficar esperando o RECV correspond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5400" y="4267080"/>
            <a:ext cx="877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MPI_BSEND (address,length,datatype,destin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tag,comunicador,ie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838080" y="2514600"/>
          <a:ext cx="775332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7533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PI_REC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sempre do tipo bloc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 superior para o tamanho da mens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I_ANY_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I_ANY_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4267080" y="3505320"/>
            <a:ext cx="381240" cy="1295280"/>
            <a:chOff x="4267080" y="3505320"/>
            <a:chExt cx="381240" cy="1295280"/>
          </a:xfrm>
        </p:grpSpPr>
        <p:sp>
          <p:nvSpPr>
            <p:cNvPr id="351" name=""/>
            <p:cNvSpPr/>
            <p:nvPr/>
          </p:nvSpPr>
          <p:spPr>
            <a:xfrm>
              <a:off x="4343400" y="4495680"/>
              <a:ext cx="304920" cy="3049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267080" y="3505320"/>
              <a:ext cx="304920" cy="3045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1160" y="1341360"/>
            <a:ext cx="7319880" cy="4173480"/>
            <a:chOff x="911160" y="1341360"/>
            <a:chExt cx="7319880" cy="4173480"/>
          </a:xfrm>
        </p:grpSpPr>
        <p:graphicFrame>
          <p:nvGraphicFramePr>
            <p:cNvPr id="354" name=""/>
            <p:cNvGraphicFramePr/>
            <p:nvPr/>
          </p:nvGraphicFramePr>
          <p:xfrm>
            <a:off x="911160" y="4157640"/>
            <a:ext cx="7319880" cy="13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1160" y="4157640"/>
                      <a:ext cx="7319880" cy="13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"/>
            <p:cNvGraphicFramePr/>
            <p:nvPr/>
          </p:nvGraphicFramePr>
          <p:xfrm>
            <a:off x="1215720" y="1341360"/>
            <a:ext cx="6271920" cy="281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5720" y="1341360"/>
                      <a:ext cx="6271920" cy="281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888840" y="2057400"/>
            <a:ext cx="761760" cy="1828800"/>
            <a:chOff x="888840" y="2057400"/>
            <a:chExt cx="761760" cy="1828800"/>
          </a:xfrm>
        </p:grpSpPr>
        <p:grpSp>
          <p:nvGrpSpPr>
            <p:cNvPr id="50" name=""/>
            <p:cNvGrpSpPr/>
            <p:nvPr/>
          </p:nvGrpSpPr>
          <p:grpSpPr>
            <a:xfrm>
              <a:off x="888840" y="2057400"/>
              <a:ext cx="761760" cy="685800"/>
              <a:chOff x="888840" y="2057400"/>
              <a:chExt cx="761760" cy="685800"/>
            </a:xfrm>
          </p:grpSpPr>
          <p:sp>
            <p:nvSpPr>
              <p:cNvPr id="51" name=""/>
              <p:cNvSpPr/>
              <p:nvPr/>
            </p:nvSpPr>
            <p:spPr>
              <a:xfrm>
                <a:off x="888840" y="2057400"/>
                <a:ext cx="761760" cy="6858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12320" y="213984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927000" y="3200400"/>
              <a:ext cx="685800" cy="685800"/>
              <a:chOff x="927000" y="3200400"/>
              <a:chExt cx="685800" cy="685800"/>
            </a:xfrm>
          </p:grpSpPr>
          <p:sp>
            <p:nvSpPr>
              <p:cNvPr id="54" name=""/>
              <p:cNvSpPr/>
              <p:nvPr/>
            </p:nvSpPr>
            <p:spPr>
              <a:xfrm>
                <a:off x="927000" y="3200400"/>
                <a:ext cx="685800" cy="6858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85760" y="33148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 flipV="1">
              <a:off x="1269720" y="27432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40160" y="2057400"/>
            <a:ext cx="761760" cy="1828800"/>
            <a:chOff x="2540160" y="2057400"/>
            <a:chExt cx="761760" cy="1828800"/>
          </a:xfrm>
        </p:grpSpPr>
        <p:grpSp>
          <p:nvGrpSpPr>
            <p:cNvPr id="58" name=""/>
            <p:cNvGrpSpPr/>
            <p:nvPr/>
          </p:nvGrpSpPr>
          <p:grpSpPr>
            <a:xfrm>
              <a:off x="2540160" y="2057400"/>
              <a:ext cx="761760" cy="685800"/>
              <a:chOff x="2540160" y="2057400"/>
              <a:chExt cx="761760" cy="685800"/>
            </a:xfrm>
          </p:grpSpPr>
          <p:sp>
            <p:nvSpPr>
              <p:cNvPr id="59" name=""/>
              <p:cNvSpPr/>
              <p:nvPr/>
            </p:nvSpPr>
            <p:spPr>
              <a:xfrm>
                <a:off x="2540160" y="2057400"/>
                <a:ext cx="761760" cy="6858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63640" y="213984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2578320" y="3200400"/>
              <a:ext cx="685800" cy="685800"/>
              <a:chOff x="2578320" y="3200400"/>
              <a:chExt cx="685800" cy="685800"/>
            </a:xfrm>
          </p:grpSpPr>
          <p:sp>
            <p:nvSpPr>
              <p:cNvPr id="62" name=""/>
              <p:cNvSpPr/>
              <p:nvPr/>
            </p:nvSpPr>
            <p:spPr>
              <a:xfrm>
                <a:off x="2578320" y="3200400"/>
                <a:ext cx="685800" cy="6858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37080" y="33148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 flipV="1">
              <a:off x="2921040" y="27432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191120" y="2057400"/>
            <a:ext cx="761760" cy="1828800"/>
            <a:chOff x="4191120" y="2057400"/>
            <a:chExt cx="761760" cy="1828800"/>
          </a:xfrm>
        </p:grpSpPr>
        <p:grpSp>
          <p:nvGrpSpPr>
            <p:cNvPr id="66" name=""/>
            <p:cNvGrpSpPr/>
            <p:nvPr/>
          </p:nvGrpSpPr>
          <p:grpSpPr>
            <a:xfrm>
              <a:off x="4191120" y="2057400"/>
              <a:ext cx="761760" cy="685800"/>
              <a:chOff x="4191120" y="2057400"/>
              <a:chExt cx="761760" cy="685800"/>
            </a:xfrm>
          </p:grpSpPr>
          <p:sp>
            <p:nvSpPr>
              <p:cNvPr id="67" name=""/>
              <p:cNvSpPr/>
              <p:nvPr/>
            </p:nvSpPr>
            <p:spPr>
              <a:xfrm>
                <a:off x="4191120" y="2057400"/>
                <a:ext cx="761760" cy="6858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14600" y="213984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4229280" y="3200400"/>
              <a:ext cx="685800" cy="685800"/>
              <a:chOff x="4229280" y="3200400"/>
              <a:chExt cx="685800" cy="685800"/>
            </a:xfrm>
          </p:grpSpPr>
          <p:sp>
            <p:nvSpPr>
              <p:cNvPr id="70" name=""/>
              <p:cNvSpPr/>
              <p:nvPr/>
            </p:nvSpPr>
            <p:spPr>
              <a:xfrm>
                <a:off x="4229280" y="3200400"/>
                <a:ext cx="685800" cy="6858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88040" y="33148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 flipV="1">
              <a:off x="4572000" y="27432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842080" y="2057400"/>
            <a:ext cx="761760" cy="1828800"/>
            <a:chOff x="5842080" y="2057400"/>
            <a:chExt cx="761760" cy="1828800"/>
          </a:xfrm>
        </p:grpSpPr>
        <p:grpSp>
          <p:nvGrpSpPr>
            <p:cNvPr id="74" name=""/>
            <p:cNvGrpSpPr/>
            <p:nvPr/>
          </p:nvGrpSpPr>
          <p:grpSpPr>
            <a:xfrm>
              <a:off x="5842080" y="2057400"/>
              <a:ext cx="761760" cy="685800"/>
              <a:chOff x="5842080" y="2057400"/>
              <a:chExt cx="761760" cy="685800"/>
            </a:xfrm>
          </p:grpSpPr>
          <p:sp>
            <p:nvSpPr>
              <p:cNvPr id="75" name=""/>
              <p:cNvSpPr/>
              <p:nvPr/>
            </p:nvSpPr>
            <p:spPr>
              <a:xfrm>
                <a:off x="5842080" y="2057400"/>
                <a:ext cx="761760" cy="6858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965560" y="213984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880240" y="3200400"/>
              <a:ext cx="685800" cy="685800"/>
              <a:chOff x="5880240" y="3200400"/>
              <a:chExt cx="685800" cy="685800"/>
            </a:xfrm>
          </p:grpSpPr>
          <p:sp>
            <p:nvSpPr>
              <p:cNvPr id="78" name=""/>
              <p:cNvSpPr/>
              <p:nvPr/>
            </p:nvSpPr>
            <p:spPr>
              <a:xfrm>
                <a:off x="5880240" y="3200400"/>
                <a:ext cx="685800" cy="6858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39000" y="33148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V="1">
              <a:off x="6222960" y="27432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493040" y="2057400"/>
            <a:ext cx="761760" cy="1828800"/>
            <a:chOff x="7493040" y="2057400"/>
            <a:chExt cx="761760" cy="1828800"/>
          </a:xfrm>
        </p:grpSpPr>
        <p:grpSp>
          <p:nvGrpSpPr>
            <p:cNvPr id="82" name=""/>
            <p:cNvGrpSpPr/>
            <p:nvPr/>
          </p:nvGrpSpPr>
          <p:grpSpPr>
            <a:xfrm>
              <a:off x="7493040" y="2057400"/>
              <a:ext cx="761760" cy="685800"/>
              <a:chOff x="7493040" y="2057400"/>
              <a:chExt cx="761760" cy="685800"/>
            </a:xfrm>
          </p:grpSpPr>
          <p:sp>
            <p:nvSpPr>
              <p:cNvPr id="83" name=""/>
              <p:cNvSpPr/>
              <p:nvPr/>
            </p:nvSpPr>
            <p:spPr>
              <a:xfrm>
                <a:off x="7493040" y="2057400"/>
                <a:ext cx="761760" cy="6858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16520" y="213984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7531200" y="3200400"/>
              <a:ext cx="685800" cy="685800"/>
              <a:chOff x="7531200" y="3200400"/>
              <a:chExt cx="685800" cy="685800"/>
            </a:xfrm>
          </p:grpSpPr>
          <p:sp>
            <p:nvSpPr>
              <p:cNvPr id="86" name=""/>
              <p:cNvSpPr/>
              <p:nvPr/>
            </p:nvSpPr>
            <p:spPr>
              <a:xfrm>
                <a:off x="7531200" y="3200400"/>
                <a:ext cx="685800" cy="6858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89960" y="33148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flipV="1">
              <a:off x="7873920" y="27432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270080" y="3886200"/>
            <a:ext cx="711000" cy="112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21040" y="3886200"/>
            <a:ext cx="0" cy="838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3886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22960" y="38862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238880" y="3885840"/>
            <a:ext cx="635040" cy="112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30360" y="4495680"/>
            <a:ext cx="6037200" cy="1600200"/>
            <a:chOff x="1530360" y="4495680"/>
            <a:chExt cx="6037200" cy="1600200"/>
          </a:xfrm>
        </p:grpSpPr>
        <p:sp>
          <p:nvSpPr>
            <p:cNvPr id="95" name=""/>
            <p:cNvSpPr/>
            <p:nvPr/>
          </p:nvSpPr>
          <p:spPr>
            <a:xfrm>
              <a:off x="1530360" y="4495680"/>
              <a:ext cx="6037200" cy="16002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23240" y="5006880"/>
              <a:ext cx="405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ede de Comunicaçã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94880" y="32400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áquina Distribuí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gr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rdem de che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 msg são garantidas de chegar na mesma ordem que foram enviada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istência do Data_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4343400"/>
            <a:ext cx="664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Dados são copiados para o buffer d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 mensagem é env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Dados são copiados do buffer d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0560" y="593424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a de alinh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ata_Type em Fortr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85800" y="2514600"/>
          <a:ext cx="7772400" cy="350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7240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unicações No-B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vido a um possível desbalancea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a não ter de esperar muito as msg se completar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Times New Roman"/>
              </a:rPr>
              <a:t>Sobreposição Computação - Comun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901800" y="990720"/>
            <a:ext cx="7338960" cy="5235480"/>
            <a:chOff x="901800" y="990720"/>
            <a:chExt cx="7338960" cy="5235480"/>
          </a:xfrm>
        </p:grpSpPr>
        <p:grpSp>
          <p:nvGrpSpPr>
            <p:cNvPr id="368" name=""/>
            <p:cNvGrpSpPr/>
            <p:nvPr/>
          </p:nvGrpSpPr>
          <p:grpSpPr>
            <a:xfrm>
              <a:off x="2182680" y="990720"/>
              <a:ext cx="1966680" cy="5235480"/>
              <a:chOff x="2182680" y="990720"/>
              <a:chExt cx="1966680" cy="523548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2656440" y="990720"/>
                <a:ext cx="1432440" cy="4343400"/>
                <a:chOff x="2656440" y="990720"/>
                <a:chExt cx="1432440" cy="43434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746440" y="1905120"/>
                  <a:ext cx="152280" cy="533520"/>
                </a:xfrm>
                <a:prstGeom prst="downArrow">
                  <a:avLst>
                    <a:gd name="adj1" fmla="val 50000"/>
                    <a:gd name="adj2" fmla="val 87589"/>
                  </a:avLst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656440" y="99072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P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586680" y="99072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P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762360" y="2895840"/>
                  <a:ext cx="152280" cy="1371600"/>
                </a:xfrm>
                <a:prstGeom prst="downArrow">
                  <a:avLst>
                    <a:gd name="adj1" fmla="val 50000"/>
                    <a:gd name="adj2" fmla="val 225177"/>
                  </a:avLst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74" name=""/>
                <p:cNvCxnSpPr>
                  <a:stCxn id="370" idx="0"/>
                  <a:endCxn id="373" idx="0"/>
                </p:cNvCxnSpPr>
                <p:nvPr/>
              </p:nvCxnSpPr>
              <p:spPr>
                <a:xfrm>
                  <a:off x="2822040" y="2438640"/>
                  <a:ext cx="1017000" cy="457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75" name=""/>
                <p:cNvSpPr/>
                <p:nvPr/>
              </p:nvSpPr>
              <p:spPr>
                <a:xfrm>
                  <a:off x="2746440" y="4800960"/>
                  <a:ext cx="152280" cy="533160"/>
                </a:xfrm>
                <a:prstGeom prst="downArrow">
                  <a:avLst>
                    <a:gd name="adj1" fmla="val 50000"/>
                    <a:gd name="adj2" fmla="val 87530"/>
                  </a:avLst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76" name=""/>
                <p:cNvCxnSpPr>
                  <a:stCxn id="373" idx="1"/>
                  <a:endCxn id="375" idx="0"/>
                </p:cNvCxnSpPr>
                <p:nvPr/>
              </p:nvCxnSpPr>
              <p:spPr>
                <a:xfrm flipH="1">
                  <a:off x="2821680" y="4267440"/>
                  <a:ext cx="1017000" cy="534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77" name=""/>
              <p:cNvSpPr/>
              <p:nvPr/>
            </p:nvSpPr>
            <p:spPr>
              <a:xfrm>
                <a:off x="2182680" y="5705640"/>
                <a:ext cx="19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Sem overla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550840" y="990720"/>
              <a:ext cx="2026440" cy="5235480"/>
              <a:chOff x="5550840" y="990720"/>
              <a:chExt cx="2026440" cy="523548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6009120" y="990720"/>
                <a:ext cx="1432440" cy="4343400"/>
                <a:chOff x="6009120" y="990720"/>
                <a:chExt cx="1432440" cy="43434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083280" y="2971800"/>
                  <a:ext cx="152280" cy="1828800"/>
                </a:xfrm>
                <a:prstGeom prst="downArrow">
                  <a:avLst>
                    <a:gd name="adj1" fmla="val 50000"/>
                    <a:gd name="adj2" fmla="val 300236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1" name=""/>
                <p:cNvGrpSpPr/>
                <p:nvPr/>
              </p:nvGrpSpPr>
              <p:grpSpPr>
                <a:xfrm>
                  <a:off x="6009120" y="990720"/>
                  <a:ext cx="1432440" cy="4343400"/>
                  <a:chOff x="6009120" y="990720"/>
                  <a:chExt cx="1432440" cy="434340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6099120" y="1905120"/>
                    <a:ext cx="152280" cy="533520"/>
                  </a:xfrm>
                  <a:prstGeom prst="downArrow">
                    <a:avLst>
                      <a:gd name="adj1" fmla="val 50000"/>
                      <a:gd name="adj2" fmla="val 87589"/>
                    </a:avLst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6009120" y="990720"/>
                    <a:ext cx="502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6939360" y="990720"/>
                    <a:ext cx="502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115040" y="2895840"/>
                    <a:ext cx="152280" cy="1371600"/>
                  </a:xfrm>
                  <a:prstGeom prst="downArrow">
                    <a:avLst>
                      <a:gd name="adj1" fmla="val 50000"/>
                      <a:gd name="adj2" fmla="val 225177"/>
                    </a:avLst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386" name=""/>
                  <p:cNvCxnSpPr>
                    <a:stCxn id="382" idx="0"/>
                    <a:endCxn id="385" idx="0"/>
                  </p:cNvCxnSpPr>
                  <p:nvPr/>
                </p:nvCxnSpPr>
                <p:spPr>
                  <a:xfrm>
                    <a:off x="6174720" y="2438640"/>
                    <a:ext cx="1017000" cy="4579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387" name=""/>
                  <p:cNvSpPr/>
                  <p:nvPr/>
                </p:nvSpPr>
                <p:spPr>
                  <a:xfrm>
                    <a:off x="6099120" y="4800960"/>
                    <a:ext cx="152280" cy="533160"/>
                  </a:xfrm>
                  <a:prstGeom prst="downArrow">
                    <a:avLst>
                      <a:gd name="adj1" fmla="val 50000"/>
                      <a:gd name="adj2" fmla="val 87530"/>
                    </a:avLst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388" name=""/>
                  <p:cNvCxnSpPr>
                    <a:stCxn id="385" idx="1"/>
                    <a:endCxn id="387" idx="0"/>
                  </p:cNvCxnSpPr>
                  <p:nvPr/>
                </p:nvCxnSpPr>
                <p:spPr>
                  <a:xfrm flipH="1">
                    <a:off x="6174360" y="4267440"/>
                    <a:ext cx="1017000" cy="534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</p:grpSp>
          <p:sp>
            <p:nvSpPr>
              <p:cNvPr id="389" name=""/>
              <p:cNvSpPr/>
              <p:nvPr/>
            </p:nvSpPr>
            <p:spPr>
              <a:xfrm>
                <a:off x="5550840" y="5705640"/>
                <a:ext cx="202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Com overla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901800" y="2057400"/>
              <a:ext cx="7315200" cy="717480"/>
              <a:chOff x="901800" y="2057400"/>
              <a:chExt cx="7315200" cy="717480"/>
            </a:xfrm>
          </p:grpSpPr>
          <p:sp>
            <p:nvSpPr>
              <p:cNvPr id="391" name=""/>
              <p:cNvSpPr/>
              <p:nvPr/>
            </p:nvSpPr>
            <p:spPr>
              <a:xfrm>
                <a:off x="1511280" y="2438280"/>
                <a:ext cx="67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2" name=""/>
                  <p:cNvSpPr txBox="1"/>
                  <p:nvPr/>
                </p:nvSpPr>
                <p:spPr>
                  <a:xfrm>
                    <a:off x="901800" y="2057400"/>
                    <a:ext cx="419040" cy="717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93" name=""/>
            <p:cNvGrpSpPr/>
            <p:nvPr/>
          </p:nvGrpSpPr>
          <p:grpSpPr>
            <a:xfrm>
              <a:off x="901800" y="4343400"/>
              <a:ext cx="7338960" cy="717480"/>
              <a:chOff x="901800" y="4343400"/>
              <a:chExt cx="7338960" cy="717480"/>
            </a:xfrm>
          </p:grpSpPr>
          <p:sp>
            <p:nvSpPr>
              <p:cNvPr id="394" name=""/>
              <p:cNvSpPr/>
              <p:nvPr/>
            </p:nvSpPr>
            <p:spPr>
              <a:xfrm>
                <a:off x="1535400" y="4800240"/>
                <a:ext cx="670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5" name=""/>
                  <p:cNvSpPr txBox="1"/>
                  <p:nvPr/>
                </p:nvSpPr>
                <p:spPr>
                  <a:xfrm>
                    <a:off x="901800" y="4343400"/>
                    <a:ext cx="466920" cy="717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-Blocking S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 aumentar o desempen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 com um controlador intel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 desbalanc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e que o buffer pode ser reuti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3240" y="5273640"/>
            <a:ext cx="877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MPI_ISEND (address,length,datatype,destin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tag,comunicador,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request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ISEND e IRECV não são síncro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É necesário completar as comumunic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PI_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PI_W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PI_WAI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0" y="2637000"/>
          <a:ext cx="9147240" cy="34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7000"/>
                    <a:ext cx="9147240" cy="34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unicações Cole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PI_B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09880" y="4267080"/>
            <a:ext cx="1676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9880" y="1981080"/>
            <a:ext cx="1676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8080" y="2895480"/>
            <a:ext cx="2362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295280" y="289512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828800" y="289512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286000" y="289512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819520" y="289512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2895480"/>
            <a:ext cx="763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-1440" y="1700280"/>
          <a:ext cx="9146880" cy="34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" y="1700280"/>
                    <a:ext cx="9146880" cy="34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4038480" y="2057400"/>
            <a:ext cx="106704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10160" y="685800"/>
            <a:ext cx="43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PI_SCATTER, MPI_G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762120" y="2209680"/>
          <a:ext cx="7548480" cy="29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754848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599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 rot="20437200">
            <a:off x="7620120" y="5029200"/>
            <a:ext cx="747720" cy="181080"/>
          </a:xfrm>
          <a:prstGeom prst="leftArrow">
            <a:avLst>
              <a:gd name="adj1" fmla="val 50000"/>
              <a:gd name="adj2" fmla="val 10323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s de Program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ster - Sl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estre - Escrav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i as tarefas - fila de taref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encia o process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ra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a as taref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m acabar primeiro recebe mais taref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ão conhecem os demais escra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0" y="685800"/>
          <a:ext cx="9144000" cy="56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0" y="838080"/>
          <a:ext cx="9144000" cy="54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perações de Re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x, Min, Sum,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0" y="433440"/>
          <a:ext cx="9144000" cy="64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3440"/>
                    <a:ext cx="9144000" cy="64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228600" y="3886200"/>
            <a:ext cx="8686800" cy="2743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7480" y="5791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 de Jaco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° - Tipos de comun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° - Sobreposição Comunicação - Compu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roblema de Poisson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étodo de Jaco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 Iterativo de resolução de sistemas de equações line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 s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gência l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gerado pelo método de diferenças finitas, stencil de 4 po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3352680" y="5502240"/>
                <a:ext cx="175284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φ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593280" y="219240"/>
            <a:ext cx="57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ças Finitas - Stencil de 4 po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262240" y="1682640"/>
            <a:ext cx="4619520" cy="3492360"/>
            <a:chOff x="2262240" y="1682640"/>
            <a:chExt cx="4619520" cy="3492360"/>
          </a:xfrm>
        </p:grpSpPr>
        <p:grpSp>
          <p:nvGrpSpPr>
            <p:cNvPr id="438" name=""/>
            <p:cNvGrpSpPr/>
            <p:nvPr/>
          </p:nvGrpSpPr>
          <p:grpSpPr>
            <a:xfrm>
              <a:off x="3085920" y="2057040"/>
              <a:ext cx="2971800" cy="2743560"/>
              <a:chOff x="3085920" y="2057040"/>
              <a:chExt cx="2971800" cy="274356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3085920" y="2057040"/>
                <a:ext cx="2971440" cy="2742840"/>
                <a:chOff x="3085920" y="2057040"/>
                <a:chExt cx="2971440" cy="274284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085920" y="3428640"/>
                  <a:ext cx="2971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V="1">
                  <a:off x="4572000" y="2057040"/>
                  <a:ext cx="0" cy="274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>
                <a:off x="4366800" y="3240360"/>
                <a:ext cx="409680" cy="377640"/>
              </a:xfrm>
              <a:prstGeom prst="ellips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85920" y="3240360"/>
                <a:ext cx="409320" cy="377640"/>
              </a:xfrm>
              <a:prstGeom prst="ellips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8040" y="3240360"/>
                <a:ext cx="409680" cy="377640"/>
              </a:xfrm>
              <a:prstGeom prst="ellips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366800" y="2057400"/>
                <a:ext cx="409680" cy="378000"/>
              </a:xfrm>
              <a:prstGeom prst="ellips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366800" y="4422960"/>
                <a:ext cx="409680" cy="377640"/>
              </a:xfrm>
              <a:prstGeom prst="ellips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6057720" y="2982960"/>
                  <a:ext cx="82404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2262240" y="2900160"/>
                  <a:ext cx="8236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4824360" y="1682640"/>
                  <a:ext cx="82404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,</m:t>
                      </m:r>
                      <m:r>
                        <m:t xml:space="preserve">j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4824360" y="4800600"/>
                  <a:ext cx="82404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,</m:t>
                      </m:r>
                      <m:r>
                        <m:t xml:space="preserve">j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4776840" y="2909880"/>
                  <a:ext cx="4251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,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517680" y="22860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257480" y="1689120"/>
            <a:ext cx="6629400" cy="3482640"/>
            <a:chOff x="1257480" y="1689120"/>
            <a:chExt cx="6629400" cy="3482640"/>
          </a:xfrm>
        </p:grpSpPr>
        <p:grpSp>
          <p:nvGrpSpPr>
            <p:cNvPr id="454" name=""/>
            <p:cNvGrpSpPr/>
            <p:nvPr/>
          </p:nvGrpSpPr>
          <p:grpSpPr>
            <a:xfrm>
              <a:off x="1257480" y="1689120"/>
              <a:ext cx="2743200" cy="3482640"/>
              <a:chOff x="1257480" y="1689120"/>
              <a:chExt cx="2743200" cy="348264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1257480" y="1689120"/>
                <a:ext cx="2743200" cy="2437920"/>
                <a:chOff x="1257480" y="1689120"/>
                <a:chExt cx="2743200" cy="243792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1257480" y="1689120"/>
                  <a:ext cx="685800" cy="243792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943280" y="1689120"/>
                  <a:ext cx="685800" cy="243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629080" y="1689120"/>
                  <a:ext cx="685800" cy="243792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314880" y="1689120"/>
                  <a:ext cx="685800" cy="243792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2321280" y="4651200"/>
                <a:ext cx="61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5143680" y="1689120"/>
              <a:ext cx="2743200" cy="3482640"/>
              <a:chOff x="5143680" y="1689120"/>
              <a:chExt cx="2743200" cy="348264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5143680" y="1689120"/>
                <a:ext cx="2743200" cy="2437560"/>
                <a:chOff x="5143680" y="1689120"/>
                <a:chExt cx="2743200" cy="24375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5143680" y="2908080"/>
                  <a:ext cx="1371600" cy="12186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143680" y="1689120"/>
                  <a:ext cx="1371600" cy="121896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515280" y="2908080"/>
                  <a:ext cx="1371600" cy="1218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515280" y="1689120"/>
                  <a:ext cx="1371600" cy="121896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6207480" y="4651200"/>
                <a:ext cx="61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2655720" y="1952640"/>
            <a:ext cx="5586480" cy="2930400"/>
            <a:chOff x="2655720" y="1952640"/>
            <a:chExt cx="5586480" cy="2930400"/>
          </a:xfrm>
        </p:grpSpPr>
        <p:sp>
          <p:nvSpPr>
            <p:cNvPr id="469" name=""/>
            <p:cNvSpPr/>
            <p:nvPr/>
          </p:nvSpPr>
          <p:spPr>
            <a:xfrm>
              <a:off x="2655720" y="1952640"/>
              <a:ext cx="5067360" cy="2930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7571520" y="3931200"/>
              <a:ext cx="973080" cy="368280"/>
            </a:xfrm>
            <a:custGeom>
              <a:avLst/>
              <a:gdLst>
                <a:gd name="textAreaLeft" fmla="*/ 170280 w 973080"/>
                <a:gd name="textAreaRight" fmla="*/ 705600 w 973080"/>
                <a:gd name="textAreaTop" fmla="*/ 49320 h 368280"/>
                <a:gd name="textAreaBottom" fmla="*/ 31896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 rot="5400000">
              <a:off x="7571160" y="2520000"/>
              <a:ext cx="973440" cy="368280"/>
            </a:xfrm>
            <a:custGeom>
              <a:avLst/>
              <a:gdLst>
                <a:gd name="textAreaLeft" fmla="*/ 170280 w 973440"/>
                <a:gd name="textAreaRight" fmla="*/ 705960 w 973440"/>
                <a:gd name="textAreaTop" fmla="*/ 49320 h 368280"/>
                <a:gd name="textAreaBottom" fmla="*/ 31896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998800" y="1468440"/>
            <a:ext cx="4495320" cy="3898800"/>
            <a:chOff x="2998800" y="1468440"/>
            <a:chExt cx="4495320" cy="3898800"/>
          </a:xfrm>
        </p:grpSpPr>
        <p:grpSp>
          <p:nvGrpSpPr>
            <p:cNvPr id="473" name=""/>
            <p:cNvGrpSpPr/>
            <p:nvPr/>
          </p:nvGrpSpPr>
          <p:grpSpPr>
            <a:xfrm>
              <a:off x="2998800" y="1468440"/>
              <a:ext cx="4495320" cy="152280"/>
              <a:chOff x="2998800" y="1468440"/>
              <a:chExt cx="4495320" cy="152280"/>
            </a:xfrm>
          </p:grpSpPr>
          <p:sp>
            <p:nvSpPr>
              <p:cNvPr id="474" name=""/>
              <p:cNvSpPr/>
              <p:nvPr/>
            </p:nvSpPr>
            <p:spPr>
              <a:xfrm>
                <a:off x="2998800" y="146844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722400" y="146844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46360" y="146844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170320" y="146844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894280" y="146844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618240" y="146844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41840" y="146844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2998800" y="2217600"/>
              <a:ext cx="4495320" cy="152280"/>
              <a:chOff x="2998800" y="2217600"/>
              <a:chExt cx="4495320" cy="152280"/>
            </a:xfrm>
          </p:grpSpPr>
          <p:sp>
            <p:nvSpPr>
              <p:cNvPr id="482" name=""/>
              <p:cNvSpPr/>
              <p:nvPr/>
            </p:nvSpPr>
            <p:spPr>
              <a:xfrm>
                <a:off x="2998800" y="221760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722400" y="221760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446360" y="221760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170320" y="221760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894280" y="221760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18240" y="221760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341840" y="221760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2998800" y="2966760"/>
              <a:ext cx="4495320" cy="152280"/>
              <a:chOff x="2998800" y="2966760"/>
              <a:chExt cx="4495320" cy="152280"/>
            </a:xfrm>
          </p:grpSpPr>
          <p:sp>
            <p:nvSpPr>
              <p:cNvPr id="490" name=""/>
              <p:cNvSpPr/>
              <p:nvPr/>
            </p:nvSpPr>
            <p:spPr>
              <a:xfrm>
                <a:off x="2998800" y="296676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722400" y="296676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446360" y="296676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170320" y="296676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94280" y="296676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618240" y="296676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341840" y="296676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2998800" y="3716280"/>
              <a:ext cx="4495320" cy="152280"/>
              <a:chOff x="2998800" y="3716280"/>
              <a:chExt cx="4495320" cy="152280"/>
            </a:xfrm>
          </p:grpSpPr>
          <p:sp>
            <p:nvSpPr>
              <p:cNvPr id="498" name=""/>
              <p:cNvSpPr/>
              <p:nvPr/>
            </p:nvSpPr>
            <p:spPr>
              <a:xfrm>
                <a:off x="2998800" y="371628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722400" y="371628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446360" y="371628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170320" y="371628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894280" y="371628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618240" y="371628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341840" y="371628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2998800" y="4465440"/>
              <a:ext cx="4495320" cy="152280"/>
              <a:chOff x="2998800" y="4465440"/>
              <a:chExt cx="4495320" cy="152280"/>
            </a:xfrm>
          </p:grpSpPr>
          <p:sp>
            <p:nvSpPr>
              <p:cNvPr id="506" name=""/>
              <p:cNvSpPr/>
              <p:nvPr/>
            </p:nvSpPr>
            <p:spPr>
              <a:xfrm>
                <a:off x="2998800" y="446544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722400" y="446544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446360" y="446544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170320" y="446544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94280" y="446544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18240" y="446544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341840" y="446544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2998800" y="5214960"/>
              <a:ext cx="4495320" cy="152280"/>
              <a:chOff x="2998800" y="5214960"/>
              <a:chExt cx="4495320" cy="152280"/>
            </a:xfrm>
          </p:grpSpPr>
          <p:sp>
            <p:nvSpPr>
              <p:cNvPr id="514" name=""/>
              <p:cNvSpPr/>
              <p:nvPr/>
            </p:nvSpPr>
            <p:spPr>
              <a:xfrm>
                <a:off x="2998800" y="521496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722400" y="521496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446360" y="521496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170320" y="521496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94280" y="521496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618240" y="521496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341840" y="521496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1" name=""/>
          <p:cNvSpPr/>
          <p:nvPr/>
        </p:nvSpPr>
        <p:spPr>
          <a:xfrm>
            <a:off x="2655720" y="4125960"/>
            <a:ext cx="5067360" cy="1508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55720" y="2674800"/>
            <a:ext cx="5067360" cy="145116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422360" y="46512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22360" y="317196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55720" y="1224000"/>
            <a:ext cx="5067360" cy="145080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22360" y="17208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35960" y="304920"/>
            <a:ext cx="53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ição unidimen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52880" y="5176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252160" y="4194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eiro Ex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rar os diferentes tipos de comunic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rar o nível de paralellismo existentes nos tipos de comunicaçõ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072880" y="360360"/>
            <a:ext cx="4995720" cy="6136920"/>
            <a:chOff x="2072880" y="360360"/>
            <a:chExt cx="4995720" cy="6136920"/>
          </a:xfrm>
        </p:grpSpPr>
        <p:sp>
          <p:nvSpPr>
            <p:cNvPr id="101" name=""/>
            <p:cNvSpPr/>
            <p:nvPr/>
          </p:nvSpPr>
          <p:spPr>
            <a:xfrm>
              <a:off x="3144600" y="3103560"/>
              <a:ext cx="685440" cy="685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906360" y="817560"/>
              <a:ext cx="2209680" cy="2209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982680" y="2188800"/>
              <a:ext cx="220932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82680" y="3484440"/>
              <a:ext cx="2209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82680" y="3713040"/>
              <a:ext cx="220932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30400" y="3941640"/>
              <a:ext cx="2361600" cy="2057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177640" y="4478040"/>
              <a:ext cx="1294920" cy="2019240"/>
              <a:chOff x="2177640" y="4478040"/>
              <a:chExt cx="1294920" cy="2019240"/>
            </a:xfrm>
          </p:grpSpPr>
          <p:sp>
            <p:nvSpPr>
              <p:cNvPr id="108" name=""/>
              <p:cNvSpPr/>
              <p:nvPr/>
            </p:nvSpPr>
            <p:spPr>
              <a:xfrm>
                <a:off x="2177640" y="4478040"/>
                <a:ext cx="1294920" cy="2019240"/>
              </a:xfrm>
              <a:prstGeom prst="flowChartDocumen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2177640" y="4478040"/>
                <a:ext cx="1294920" cy="368280"/>
                <a:chOff x="2177640" y="4478040"/>
                <a:chExt cx="1294920" cy="3682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177640" y="4844880"/>
                  <a:ext cx="129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179080" y="447804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t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2177640" y="4844880"/>
                <a:ext cx="1294920" cy="368280"/>
                <a:chOff x="2177640" y="4844880"/>
                <a:chExt cx="1294920" cy="368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177640" y="5211360"/>
                  <a:ext cx="129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179080" y="484488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t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2177640" y="5211360"/>
                <a:ext cx="1294920" cy="368280"/>
                <a:chOff x="2177640" y="5211360"/>
                <a:chExt cx="1294920" cy="368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177640" y="5578200"/>
                  <a:ext cx="129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179080" y="5211360"/>
                  <a:ext cx="39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a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177640" y="5578200"/>
                <a:ext cx="1294920" cy="368280"/>
                <a:chOff x="2177640" y="5578200"/>
                <a:chExt cx="1294920" cy="368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177640" y="5945040"/>
                  <a:ext cx="129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179080" y="5578200"/>
                  <a:ext cx="39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a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2177640" y="631152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79080" y="594504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</a:rPr>
                  <a:t>a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6383160" y="360360"/>
              <a:ext cx="685440" cy="685800"/>
              <a:chOff x="6383160" y="360360"/>
              <a:chExt cx="685440" cy="685800"/>
            </a:xfrm>
          </p:grpSpPr>
          <p:sp>
            <p:nvSpPr>
              <p:cNvPr id="124" name=""/>
              <p:cNvSpPr/>
              <p:nvPr/>
            </p:nvSpPr>
            <p:spPr>
              <a:xfrm>
                <a:off x="6383160" y="360360"/>
                <a:ext cx="685440" cy="6858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460560" y="43632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6383160" y="3027240"/>
              <a:ext cx="685440" cy="685800"/>
              <a:chOff x="6383160" y="3027240"/>
              <a:chExt cx="685440" cy="685800"/>
            </a:xfrm>
          </p:grpSpPr>
          <p:sp>
            <p:nvSpPr>
              <p:cNvPr id="127" name=""/>
              <p:cNvSpPr/>
              <p:nvPr/>
            </p:nvSpPr>
            <p:spPr>
              <a:xfrm>
                <a:off x="6383160" y="3027240"/>
                <a:ext cx="685440" cy="6858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60560" y="31032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383160" y="4360680"/>
              <a:ext cx="685440" cy="685800"/>
              <a:chOff x="6383160" y="4360680"/>
              <a:chExt cx="685440" cy="685800"/>
            </a:xfrm>
          </p:grpSpPr>
          <p:sp>
            <p:nvSpPr>
              <p:cNvPr id="130" name=""/>
              <p:cNvSpPr/>
              <p:nvPr/>
            </p:nvSpPr>
            <p:spPr>
              <a:xfrm>
                <a:off x="6383160" y="4360680"/>
                <a:ext cx="685440" cy="6858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60560" y="443664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383160" y="1693800"/>
              <a:ext cx="685440" cy="685800"/>
              <a:chOff x="6383160" y="1693800"/>
              <a:chExt cx="685440" cy="685800"/>
            </a:xfrm>
          </p:grpSpPr>
          <p:sp>
            <p:nvSpPr>
              <p:cNvPr id="133" name=""/>
              <p:cNvSpPr/>
              <p:nvPr/>
            </p:nvSpPr>
            <p:spPr>
              <a:xfrm>
                <a:off x="6383160" y="1693800"/>
                <a:ext cx="685440" cy="6858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460560" y="176976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383160" y="5694120"/>
              <a:ext cx="685440" cy="685800"/>
              <a:chOff x="6383160" y="5694120"/>
              <a:chExt cx="685440" cy="685800"/>
            </a:xfrm>
          </p:grpSpPr>
          <p:sp>
            <p:nvSpPr>
              <p:cNvPr id="136" name=""/>
              <p:cNvSpPr/>
              <p:nvPr/>
            </p:nvSpPr>
            <p:spPr>
              <a:xfrm>
                <a:off x="6383160" y="5694120"/>
                <a:ext cx="685440" cy="6858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60560" y="57700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2442960" y="2646360"/>
              <a:ext cx="10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72880" y="4020840"/>
              <a:ext cx="191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la de taref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88720" y="23796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ter - S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435960" y="588960"/>
            <a:ext cx="53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ição unidimen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57800" y="2027160"/>
            <a:ext cx="380880" cy="304920"/>
          </a:xfrm>
          <a:custGeom>
            <a:avLst/>
            <a:gdLst>
              <a:gd name="textAreaLeft" fmla="*/ 76320 w 380880"/>
              <a:gd name="textAreaRight" fmla="*/ 30492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1575" y="5400"/>
                </a:lnTo>
                <a:lnTo>
                  <a:pt x="5400" y="5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1575" y="16200"/>
                </a:lnTo>
                <a:lnTo>
                  <a:pt x="21575" y="5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575" y="16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975" h="21600">
                <a:moveTo>
                  <a:pt x="9462" y="6775"/>
                </a:moveTo>
                <a:lnTo>
                  <a:pt x="17512" y="10800"/>
                </a:lnTo>
                <a:lnTo>
                  <a:pt x="9462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6000" y="1919160"/>
            <a:ext cx="30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a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640" y="2575080"/>
            <a:ext cx="155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di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2682720"/>
            <a:ext cx="381240" cy="304920"/>
          </a:xfrm>
          <a:custGeom>
            <a:avLst/>
            <a:gdLst>
              <a:gd name="textAreaLeft" fmla="*/ 76320 w 381240"/>
              <a:gd name="textAreaRight" fmla="*/ 305280 w 3812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1600" y="5400"/>
                </a:lnTo>
                <a:lnTo>
                  <a:pt x="5400" y="5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1600" y="16200"/>
                </a:lnTo>
                <a:lnTo>
                  <a:pt x="21600" y="5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600" y="16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000" h="21600">
                <a:moveTo>
                  <a:pt x="9475" y="6775"/>
                </a:moveTo>
                <a:lnTo>
                  <a:pt x="17525" y="10800"/>
                </a:lnTo>
                <a:lnTo>
                  <a:pt x="94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97080" y="3232080"/>
            <a:ext cx="16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ep1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24080" y="3340080"/>
            <a:ext cx="381240" cy="304920"/>
          </a:xfrm>
          <a:custGeom>
            <a:avLst/>
            <a:gdLst>
              <a:gd name="textAreaLeft" fmla="*/ 76320 w 381240"/>
              <a:gd name="textAreaRight" fmla="*/ 305280 w 3812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1600" y="5400"/>
                </a:lnTo>
                <a:lnTo>
                  <a:pt x="5400" y="5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1600" y="16200"/>
                </a:lnTo>
                <a:lnTo>
                  <a:pt x="21600" y="5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600" y="16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000" h="21600">
                <a:moveTo>
                  <a:pt x="9475" y="6775"/>
                </a:moveTo>
                <a:lnTo>
                  <a:pt x="17525" y="10800"/>
                </a:lnTo>
                <a:lnTo>
                  <a:pt x="94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434520" y="588960"/>
            <a:ext cx="57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do o tipo de comunic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295280" y="254016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s e Receives orde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211800" y="2647800"/>
            <a:ext cx="381240" cy="304920"/>
          </a:xfrm>
          <a:custGeom>
            <a:avLst/>
            <a:gdLst>
              <a:gd name="textAreaLeft" fmla="*/ 76320 w 381240"/>
              <a:gd name="textAreaRight" fmla="*/ 305280 w 3812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1600" y="5400"/>
                </a:lnTo>
                <a:lnTo>
                  <a:pt x="5400" y="5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1600" y="16200"/>
                </a:lnTo>
                <a:lnTo>
                  <a:pt x="21600" y="5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600" y="16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000" h="21600">
                <a:moveTo>
                  <a:pt x="9475" y="6775"/>
                </a:moveTo>
                <a:lnTo>
                  <a:pt x="17525" y="10800"/>
                </a:lnTo>
                <a:lnTo>
                  <a:pt x="94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96720" y="3267000"/>
            <a:ext cx="25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ffered Sen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38680" y="3373560"/>
            <a:ext cx="380880" cy="304560"/>
          </a:xfrm>
          <a:custGeom>
            <a:avLst/>
            <a:gdLst>
              <a:gd name="textAreaLeft" fmla="*/ 75960 w 380880"/>
              <a:gd name="textAreaRight" fmla="*/ 304920 w 380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1606" y="5400"/>
                </a:lnTo>
                <a:lnTo>
                  <a:pt x="5400" y="5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1606" y="16200"/>
                </a:lnTo>
                <a:lnTo>
                  <a:pt x="21606" y="5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606" y="16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006" h="21600">
                <a:moveTo>
                  <a:pt x="9478" y="6775"/>
                </a:moveTo>
                <a:lnTo>
                  <a:pt x="17528" y="10800"/>
                </a:lnTo>
                <a:lnTo>
                  <a:pt x="9478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296360" y="3995640"/>
            <a:ext cx="23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ão Block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38680" y="4102200"/>
            <a:ext cx="380880" cy="304560"/>
          </a:xfrm>
          <a:custGeom>
            <a:avLst/>
            <a:gdLst>
              <a:gd name="textAreaLeft" fmla="*/ 75960 w 380880"/>
              <a:gd name="textAreaRight" fmla="*/ 304920 w 380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1606" y="5400"/>
                </a:lnTo>
                <a:lnTo>
                  <a:pt x="5400" y="5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1606" y="16200"/>
                </a:lnTo>
                <a:lnTo>
                  <a:pt x="21606" y="5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606" y="16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006" h="21600">
                <a:moveTo>
                  <a:pt x="9478" y="6775"/>
                </a:moveTo>
                <a:lnTo>
                  <a:pt x="17528" y="10800"/>
                </a:lnTo>
                <a:lnTo>
                  <a:pt x="9478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95280" y="1752480"/>
            <a:ext cx="16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38680" y="1860480"/>
            <a:ext cx="380880" cy="304920"/>
          </a:xfrm>
          <a:custGeom>
            <a:avLst/>
            <a:gdLst>
              <a:gd name="textAreaLeft" fmla="*/ 76320 w 380880"/>
              <a:gd name="textAreaRight" fmla="*/ 30492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1575" y="5400"/>
                </a:lnTo>
                <a:lnTo>
                  <a:pt x="5400" y="5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1575" y="16200"/>
                </a:lnTo>
                <a:lnTo>
                  <a:pt x="21575" y="5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575" y="16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975" h="21600">
                <a:moveTo>
                  <a:pt x="9462" y="6775"/>
                </a:moveTo>
                <a:lnTo>
                  <a:pt x="17512" y="10800"/>
                </a:lnTo>
                <a:lnTo>
                  <a:pt x="9462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773280" y="1981080"/>
          <a:ext cx="8092800" cy="516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1981080"/>
                    <a:ext cx="809280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o Ex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uso das comunicações não - blocantes para aumentar o desempen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ar algum trabalho durante o transito das mensage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34520" y="588960"/>
            <a:ext cx="59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ção - Comunicação (1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357800" y="2027160"/>
            <a:ext cx="380880" cy="304920"/>
          </a:xfrm>
          <a:custGeom>
            <a:avLst/>
            <a:gdLst>
              <a:gd name="textAreaLeft" fmla="*/ 76320 w 380880"/>
              <a:gd name="textAreaRight" fmla="*/ 30492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1575" y="5400"/>
                </a:lnTo>
                <a:lnTo>
                  <a:pt x="5400" y="5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1575" y="16200"/>
                </a:lnTo>
                <a:lnTo>
                  <a:pt x="21575" y="5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575" y="16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975" h="21600">
                <a:moveTo>
                  <a:pt x="9462" y="6775"/>
                </a:moveTo>
                <a:lnTo>
                  <a:pt x="17512" y="10800"/>
                </a:lnTo>
                <a:lnTo>
                  <a:pt x="9462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296000" y="1919160"/>
            <a:ext cx="30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a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96000" y="3505320"/>
            <a:ext cx="21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un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357800" y="3613320"/>
            <a:ext cx="380880" cy="304560"/>
          </a:xfrm>
          <a:custGeom>
            <a:avLst/>
            <a:gdLst>
              <a:gd name="textAreaLeft" fmla="*/ 75960 w 380880"/>
              <a:gd name="textAreaRight" fmla="*/ 304920 w 380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1606" y="5400"/>
                </a:lnTo>
                <a:lnTo>
                  <a:pt x="5400" y="5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1606" y="16200"/>
                </a:lnTo>
                <a:lnTo>
                  <a:pt x="21606" y="5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606" y="16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006" h="21600">
                <a:moveTo>
                  <a:pt x="9478" y="6775"/>
                </a:moveTo>
                <a:lnTo>
                  <a:pt x="17528" y="10800"/>
                </a:lnTo>
                <a:lnTo>
                  <a:pt x="9478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95640" y="2712960"/>
            <a:ext cx="133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álc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357800" y="2820960"/>
            <a:ext cx="380880" cy="304920"/>
          </a:xfrm>
          <a:custGeom>
            <a:avLst/>
            <a:gdLst>
              <a:gd name="textAreaLeft" fmla="*/ 76320 w 380880"/>
              <a:gd name="textAreaRight" fmla="*/ 30492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1575" y="5400"/>
                </a:lnTo>
                <a:lnTo>
                  <a:pt x="5400" y="5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1575" y="16200"/>
                </a:lnTo>
                <a:lnTo>
                  <a:pt x="21575" y="5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575" y="16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975" h="21600">
                <a:moveTo>
                  <a:pt x="9462" y="6775"/>
                </a:moveTo>
                <a:lnTo>
                  <a:pt x="17512" y="10800"/>
                </a:lnTo>
                <a:lnTo>
                  <a:pt x="9462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ras Funcion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ing &amp; Unp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ed Data_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olo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acking  &amp; Data_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andar vários valores armazenados na memória de forma não contínua em uma só ms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63640" y="3886200"/>
            <a:ext cx="11937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1346040" y="4317120"/>
            <a:ext cx="228600" cy="1193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0960 h 1193760"/>
              <a:gd name="textAreaBottom" fmla="*/ 1162800 h 119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75"/>
                </a:lnTo>
                <a:cubicBezTo>
                  <a:pt x="10800" y="9175"/>
                  <a:pt x="5400" y="10075"/>
                  <a:pt x="0" y="10075"/>
                </a:cubicBezTo>
                <a:cubicBezTo>
                  <a:pt x="5400" y="10075"/>
                  <a:pt x="10800" y="10975"/>
                  <a:pt x="10800" y="118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914040" y="50292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ca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3390480" y="3466440"/>
            <a:ext cx="304920" cy="2971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14"/>
                </a:lnTo>
                <a:cubicBezTo>
                  <a:pt x="10800" y="10414"/>
                  <a:pt x="5400" y="11314"/>
                  <a:pt x="0" y="11314"/>
                </a:cubicBezTo>
                <a:cubicBezTo>
                  <a:pt x="5400" y="11314"/>
                  <a:pt x="10800" y="12214"/>
                  <a:pt x="10800" y="1311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7048440" y="3390840"/>
            <a:ext cx="380880" cy="3200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76"/>
                </a:lnTo>
                <a:cubicBezTo>
                  <a:pt x="10800" y="9176"/>
                  <a:pt x="5400" y="10076"/>
                  <a:pt x="0" y="10076"/>
                </a:cubicBezTo>
                <a:cubicBezTo>
                  <a:pt x="5400" y="10076"/>
                  <a:pt x="10800" y="10976"/>
                  <a:pt x="10800" y="1187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78160" y="51055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tor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630840" y="525780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tor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724280" y="3886200"/>
            <a:ext cx="11937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638680" y="3886200"/>
            <a:ext cx="32767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057400" y="3886200"/>
            <a:ext cx="2971800" cy="53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acknig &amp; Unp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nter correspondência entre outras bibliote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 conter diferentes ti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sempacotar em ordem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is uma cópia de dos valores -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buff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8960" y="4038480"/>
            <a:ext cx="862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CALL MPI_PACK (inbuf,icount,datatype,</a:t>
            </a: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outbuf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outcoun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poss,comm,ier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520560" y="1066680"/>
            <a:ext cx="3886200" cy="3581280"/>
            <a:chOff x="520560" y="1066680"/>
            <a:chExt cx="3886200" cy="3581280"/>
          </a:xfrm>
        </p:grpSpPr>
        <p:sp>
          <p:nvSpPr>
            <p:cNvPr id="578" name=""/>
            <p:cNvSpPr/>
            <p:nvPr/>
          </p:nvSpPr>
          <p:spPr>
            <a:xfrm>
              <a:off x="799920" y="1295280"/>
              <a:ext cx="1193760" cy="5335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9920" y="2158920"/>
              <a:ext cx="2971800" cy="533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50680" y="3022560"/>
              <a:ext cx="60984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50680" y="3886200"/>
              <a:ext cx="3276720" cy="533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0560" y="1066680"/>
              <a:ext cx="3886200" cy="3581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426600" y="19080"/>
            <a:ext cx="31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 do P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93240" y="148896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.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266760" y="838080"/>
            <a:ext cx="8610480" cy="5682600"/>
            <a:chOff x="266760" y="838080"/>
            <a:chExt cx="8610480" cy="5682600"/>
          </a:xfrm>
        </p:grpSpPr>
        <p:grpSp>
          <p:nvGrpSpPr>
            <p:cNvPr id="586" name=""/>
            <p:cNvGrpSpPr/>
            <p:nvPr/>
          </p:nvGrpSpPr>
          <p:grpSpPr>
            <a:xfrm>
              <a:off x="520560" y="5029200"/>
              <a:ext cx="8051760" cy="533520"/>
              <a:chOff x="520560" y="5029200"/>
              <a:chExt cx="8051760" cy="533520"/>
            </a:xfrm>
          </p:grpSpPr>
          <p:sp>
            <p:nvSpPr>
              <p:cNvPr id="587" name=""/>
              <p:cNvSpPr/>
              <p:nvPr/>
            </p:nvSpPr>
            <p:spPr>
              <a:xfrm>
                <a:off x="520560" y="5029200"/>
                <a:ext cx="1193760" cy="5335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381200" y="5029200"/>
                <a:ext cx="1193760" cy="5335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295600" y="5029200"/>
                <a:ext cx="3276720" cy="5335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714320" y="5029200"/>
                <a:ext cx="2971800" cy="5335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266760" y="838080"/>
              <a:ext cx="8610480" cy="5181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86480" y="3556080"/>
              <a:ext cx="1333440" cy="3301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575320" y="3556080"/>
              <a:ext cx="749160" cy="863640"/>
            </a:xfrm>
            <a:prstGeom prst="downArrow">
              <a:avLst>
                <a:gd name="adj1" fmla="val 50000"/>
                <a:gd name="adj2" fmla="val 2882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231600" y="6060960"/>
              <a:ext cx="256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m. com Pac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5400000">
              <a:off x="5511600" y="1688760"/>
              <a:ext cx="749160" cy="2400120"/>
            </a:xfrm>
            <a:prstGeom prst="downArrow">
              <a:avLst>
                <a:gd name="adj1" fmla="val 41954"/>
                <a:gd name="adj2" fmla="val 28181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6200000">
              <a:off x="6254640" y="3308040"/>
              <a:ext cx="1333800" cy="3301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rived Data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vita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buff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Mais eficiente que o Pac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nos uma cópia memória para memó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is para sistem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ult-tole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 distribuí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ição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s atmosfera - oce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mos gen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5562720" y="1600200"/>
            <a:ext cx="3049560" cy="3277440"/>
            <a:chOff x="5562720" y="1600200"/>
            <a:chExt cx="3049560" cy="3277440"/>
          </a:xfrm>
        </p:grpSpPr>
        <p:grpSp>
          <p:nvGrpSpPr>
            <p:cNvPr id="600" name=""/>
            <p:cNvGrpSpPr/>
            <p:nvPr/>
          </p:nvGrpSpPr>
          <p:grpSpPr>
            <a:xfrm>
              <a:off x="5562720" y="1600200"/>
              <a:ext cx="3049560" cy="3277440"/>
              <a:chOff x="5562720" y="1600200"/>
              <a:chExt cx="3049560" cy="327744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5562720" y="2133360"/>
                <a:ext cx="3049560" cy="2744280"/>
                <a:chOff x="5562720" y="2133360"/>
                <a:chExt cx="3049560" cy="27442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5564160" y="2439720"/>
                  <a:ext cx="304812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564160" y="3049560"/>
                  <a:ext cx="3048120" cy="30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564160" y="3354120"/>
                  <a:ext cx="304812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564160" y="3659040"/>
                  <a:ext cx="304812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564160" y="3963960"/>
                  <a:ext cx="3048120" cy="30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564160" y="4268520"/>
                  <a:ext cx="304812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rot="16200000">
                  <a:off x="4699080" y="3334680"/>
                  <a:ext cx="2742840" cy="339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rot="16200000">
                  <a:off x="7070040" y="3335400"/>
                  <a:ext cx="2742840" cy="338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rot="16200000">
                  <a:off x="4360320" y="3335760"/>
                  <a:ext cx="2742840" cy="338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rot="16200000">
                  <a:off x="5038200" y="3335760"/>
                  <a:ext cx="2742840" cy="338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rot="16200000">
                  <a:off x="5376240" y="3335760"/>
                  <a:ext cx="2742840" cy="338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rot="16200000">
                  <a:off x="5716800" y="3336120"/>
                  <a:ext cx="2742840" cy="339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rot="16200000">
                  <a:off x="6054120" y="3335760"/>
                  <a:ext cx="2742840" cy="338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rot="16200000">
                  <a:off x="6392160" y="3335400"/>
                  <a:ext cx="2742840" cy="338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16200000">
                  <a:off x="6731280" y="3335040"/>
                  <a:ext cx="2742840" cy="33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5562720" y="1600200"/>
                <a:ext cx="1752840" cy="333360"/>
              </a:xfrm>
              <a:custGeom>
                <a:avLst/>
                <a:gdLst>
                  <a:gd name="textAreaLeft" fmla="*/ 273600 w 1752840"/>
                  <a:gd name="textAreaRight" fmla="*/ 1533960 w 1752840"/>
                  <a:gd name="textAreaTop" fmla="*/ 83160 h 333360"/>
                  <a:gd name="textAreaBottom" fmla="*/ 250200 h 33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5562720" y="2133720"/>
              <a:ext cx="30481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33160" y="2133360"/>
            <a:ext cx="3658680" cy="2744280"/>
            <a:chOff x="533160" y="2133360"/>
            <a:chExt cx="3658680" cy="2744280"/>
          </a:xfrm>
        </p:grpSpPr>
        <p:grpSp>
          <p:nvGrpSpPr>
            <p:cNvPr id="620" name=""/>
            <p:cNvGrpSpPr/>
            <p:nvPr/>
          </p:nvGrpSpPr>
          <p:grpSpPr>
            <a:xfrm>
              <a:off x="533160" y="2133360"/>
              <a:ext cx="3658680" cy="2744280"/>
              <a:chOff x="533160" y="2133360"/>
              <a:chExt cx="3658680" cy="274428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1143000" y="2133360"/>
                <a:ext cx="3048840" cy="2744280"/>
                <a:chOff x="1143000" y="2133360"/>
                <a:chExt cx="3048840" cy="274428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1144080" y="2439720"/>
                  <a:ext cx="304776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144080" y="3049560"/>
                  <a:ext cx="3047760" cy="30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144080" y="3354120"/>
                  <a:ext cx="304776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144080" y="3659040"/>
                  <a:ext cx="304776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144080" y="3963960"/>
                  <a:ext cx="3047760" cy="30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144080" y="4268520"/>
                  <a:ext cx="304776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rot="16200000">
                  <a:off x="279000" y="3335040"/>
                  <a:ext cx="2742840" cy="33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16200000">
                  <a:off x="2649960" y="3335760"/>
                  <a:ext cx="2742840" cy="338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rot="16200000">
                  <a:off x="-59400" y="3335760"/>
                  <a:ext cx="2742840" cy="337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617760" y="3335760"/>
                  <a:ext cx="2742840" cy="337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955800" y="3335760"/>
                  <a:ext cx="2742840" cy="337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1296720" y="3336480"/>
                  <a:ext cx="2742840" cy="33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1633680" y="3335760"/>
                  <a:ext cx="2742840" cy="337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1972080" y="3335760"/>
                  <a:ext cx="2742840" cy="338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rot="16200000">
                  <a:off x="2310840" y="3335040"/>
                  <a:ext cx="2742840" cy="33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 rot="5400000">
                <a:off x="-176400" y="2843280"/>
                <a:ext cx="1752480" cy="333000"/>
              </a:xfrm>
              <a:custGeom>
                <a:avLst/>
                <a:gdLst>
                  <a:gd name="textAreaLeft" fmla="*/ 273600 w 1752480"/>
                  <a:gd name="textAreaRight" fmla="*/ 1533600 w 1752480"/>
                  <a:gd name="textAreaTop" fmla="*/ 83160 h 333000"/>
                  <a:gd name="textAreaBottom" fmla="*/ 249840 h 33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>
              <a:off x="1143000" y="2133720"/>
              <a:ext cx="304740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72120" y="371520"/>
            <a:ext cx="40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 de armazenament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747440" y="555300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78880" y="5477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610200" y="609480"/>
            <a:ext cx="809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CALL MPI_Type_Vector  (count,blksize,stride,old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                                            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,newtype,ier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3274920" y="3811320"/>
            <a:ext cx="3049560" cy="2744280"/>
            <a:chOff x="3274920" y="3811320"/>
            <a:chExt cx="3049560" cy="2744280"/>
          </a:xfrm>
        </p:grpSpPr>
        <p:grpSp>
          <p:nvGrpSpPr>
            <p:cNvPr id="644" name=""/>
            <p:cNvGrpSpPr/>
            <p:nvPr/>
          </p:nvGrpSpPr>
          <p:grpSpPr>
            <a:xfrm>
              <a:off x="3274920" y="3811320"/>
              <a:ext cx="3049560" cy="2744280"/>
              <a:chOff x="3274920" y="3811320"/>
              <a:chExt cx="3049560" cy="2744280"/>
            </a:xfrm>
          </p:grpSpPr>
          <p:sp>
            <p:nvSpPr>
              <p:cNvPr id="645" name=""/>
              <p:cNvSpPr/>
              <p:nvPr/>
            </p:nvSpPr>
            <p:spPr>
              <a:xfrm>
                <a:off x="3276360" y="4117680"/>
                <a:ext cx="304812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276360" y="4727520"/>
                <a:ext cx="3048120" cy="304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276360" y="5032080"/>
                <a:ext cx="304812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276360" y="5337000"/>
                <a:ext cx="304812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276360" y="5641920"/>
                <a:ext cx="3048120" cy="304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76360" y="5946480"/>
                <a:ext cx="304812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6200000">
                <a:off x="2411280" y="5012640"/>
                <a:ext cx="2742840" cy="339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6200000">
                <a:off x="4782240" y="5013360"/>
                <a:ext cx="2742840" cy="338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6200000">
                <a:off x="2072520" y="5013720"/>
                <a:ext cx="2742840" cy="33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6200000">
                <a:off x="2750400" y="5013720"/>
                <a:ext cx="2742840" cy="33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6200000">
                <a:off x="3088440" y="5013720"/>
                <a:ext cx="2742840" cy="33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6200000">
                <a:off x="3429000" y="5014080"/>
                <a:ext cx="2742840" cy="339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6200000">
                <a:off x="3766320" y="5013720"/>
                <a:ext cx="2742840" cy="33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6200000">
                <a:off x="4104360" y="5013360"/>
                <a:ext cx="2742840" cy="338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6200000">
                <a:off x="4443480" y="5013000"/>
                <a:ext cx="274284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"/>
            <p:cNvSpPr/>
            <p:nvPr/>
          </p:nvSpPr>
          <p:spPr>
            <a:xfrm>
              <a:off x="4646520" y="3811680"/>
              <a:ext cx="380880" cy="27428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6200000">
              <a:off x="4646520" y="3354120"/>
              <a:ext cx="304560" cy="30477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613440" y="1676520"/>
            <a:ext cx="627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CALL MPI_Type_Commit  (newtype,ier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14520" y="2622600"/>
            <a:ext cx="574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CALL MPI_Type_Free  (newtype,ier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ipos de Data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tigu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ector -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trid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cons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v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de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inde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olog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ar o mape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: melhorar o desempe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 sempre 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s processos reflete o padrão de comunic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"/>
          <p:cNvGrpSpPr/>
          <p:nvPr/>
        </p:nvGrpSpPr>
        <p:grpSpPr>
          <a:xfrm>
            <a:off x="1733400" y="1447920"/>
            <a:ext cx="5276880" cy="4267080"/>
            <a:chOff x="1733400" y="1447920"/>
            <a:chExt cx="5276880" cy="4267080"/>
          </a:xfrm>
        </p:grpSpPr>
        <p:grpSp>
          <p:nvGrpSpPr>
            <p:cNvPr id="669" name=""/>
            <p:cNvGrpSpPr/>
            <p:nvPr/>
          </p:nvGrpSpPr>
          <p:grpSpPr>
            <a:xfrm>
              <a:off x="1733400" y="1447920"/>
              <a:ext cx="5276880" cy="4267080"/>
              <a:chOff x="1733400" y="1447920"/>
              <a:chExt cx="5276880" cy="4267080"/>
            </a:xfrm>
          </p:grpSpPr>
          <p:grpSp>
            <p:nvGrpSpPr>
              <p:cNvPr id="670" name=""/>
              <p:cNvGrpSpPr/>
              <p:nvPr/>
            </p:nvGrpSpPr>
            <p:grpSpPr>
              <a:xfrm>
                <a:off x="1733400" y="1447920"/>
                <a:ext cx="5257800" cy="4267080"/>
                <a:chOff x="1733400" y="1447920"/>
                <a:chExt cx="5257800" cy="426708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1733400" y="4267080"/>
                  <a:ext cx="2895840" cy="14479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629240" y="3962520"/>
                  <a:ext cx="2361960" cy="175248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629240" y="1447920"/>
                  <a:ext cx="2361960" cy="2514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4648320" y="1447920"/>
                <a:ext cx="2361960" cy="1143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2802240" y="464832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88560" y="464832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88560" y="29718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488560" y="175248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533520" y="1447920"/>
            <a:ext cx="6476760" cy="4267080"/>
            <a:chOff x="533520" y="1447920"/>
            <a:chExt cx="6476760" cy="4267080"/>
          </a:xfrm>
        </p:grpSpPr>
        <p:sp>
          <p:nvSpPr>
            <p:cNvPr id="680" name=""/>
            <p:cNvSpPr/>
            <p:nvPr/>
          </p:nvSpPr>
          <p:spPr>
            <a:xfrm>
              <a:off x="1752480" y="1447920"/>
              <a:ext cx="5257800" cy="4267080"/>
            </a:xfrm>
            <a:custGeom>
              <a:avLst/>
              <a:gdLst/>
              <a:ahLst/>
              <a:rect l="l" t="t" r="r" b="b"/>
              <a:pathLst>
                <a:path w="3312" h="2688">
                  <a:moveTo>
                    <a:pt x="0" y="2688"/>
                  </a:moveTo>
                  <a:lnTo>
                    <a:pt x="0" y="1776"/>
                  </a:lnTo>
                  <a:lnTo>
                    <a:pt x="1824" y="1776"/>
                  </a:lnTo>
                  <a:lnTo>
                    <a:pt x="1824" y="0"/>
                  </a:lnTo>
                  <a:lnTo>
                    <a:pt x="3312" y="0"/>
                  </a:lnTo>
                  <a:lnTo>
                    <a:pt x="3312" y="2688"/>
                  </a:lnTo>
                  <a:lnTo>
                    <a:pt x="0" y="2688"/>
                  </a:ln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533520" y="4419720"/>
              <a:ext cx="609480" cy="1143000"/>
              <a:chOff x="533520" y="4419720"/>
              <a:chExt cx="609480" cy="1143000"/>
            </a:xfrm>
          </p:grpSpPr>
          <p:sp>
            <p:nvSpPr>
              <p:cNvPr id="682" name=""/>
              <p:cNvSpPr/>
              <p:nvPr/>
            </p:nvSpPr>
            <p:spPr>
              <a:xfrm>
                <a:off x="533520" y="4419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33520" y="4724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33520" y="5029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33520" y="53341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33520" y="5562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"/>
          <p:cNvSpPr/>
          <p:nvPr/>
        </p:nvSpPr>
        <p:spPr>
          <a:xfrm>
            <a:off x="671400" y="295200"/>
            <a:ext cx="41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oamento em uma ju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4343400" y="2209320"/>
            <a:ext cx="1704960" cy="2924640"/>
            <a:chOff x="4343400" y="2209320"/>
            <a:chExt cx="1704960" cy="2924640"/>
          </a:xfrm>
        </p:grpSpPr>
        <p:sp>
          <p:nvSpPr>
            <p:cNvPr id="689" name=""/>
            <p:cNvSpPr/>
            <p:nvPr/>
          </p:nvSpPr>
          <p:spPr>
            <a:xfrm>
              <a:off x="4343400" y="4724280"/>
              <a:ext cx="685800" cy="409680"/>
            </a:xfrm>
            <a:prstGeom prst="leftRightArrow">
              <a:avLst>
                <a:gd name="adj1" fmla="val 50000"/>
                <a:gd name="adj2" fmla="val 333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6200000">
              <a:off x="5424480" y="3795480"/>
              <a:ext cx="685800" cy="409320"/>
            </a:xfrm>
            <a:prstGeom prst="leftRightArrow">
              <a:avLst>
                <a:gd name="adj1" fmla="val 50000"/>
                <a:gd name="adj2" fmla="val 333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16200000">
              <a:off x="5500440" y="2347200"/>
              <a:ext cx="685800" cy="409680"/>
            </a:xfrm>
            <a:prstGeom prst="leftRightArrow">
              <a:avLst>
                <a:gd name="adj1" fmla="val 50000"/>
                <a:gd name="adj2" fmla="val 333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1752480" y="3048120"/>
            <a:ext cx="6096240" cy="914400"/>
            <a:chOff x="1752480" y="3048120"/>
            <a:chExt cx="6096240" cy="914400"/>
          </a:xfrm>
        </p:grpSpPr>
        <p:sp>
          <p:nvSpPr>
            <p:cNvPr id="693" name=""/>
            <p:cNvSpPr/>
            <p:nvPr/>
          </p:nvSpPr>
          <p:spPr>
            <a:xfrm>
              <a:off x="2209680" y="3505320"/>
              <a:ext cx="518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1752480" y="3048120"/>
              <a:ext cx="6096240" cy="914400"/>
              <a:chOff x="1752480" y="3048120"/>
              <a:chExt cx="6096240" cy="914400"/>
            </a:xfrm>
          </p:grpSpPr>
          <p:sp>
            <p:nvSpPr>
              <p:cNvPr id="695" name=""/>
              <p:cNvSpPr/>
              <p:nvPr/>
            </p:nvSpPr>
            <p:spPr>
              <a:xfrm>
                <a:off x="6934320" y="3048120"/>
                <a:ext cx="914400" cy="914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479760" y="3048120"/>
                <a:ext cx="914400" cy="914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752480" y="3048120"/>
                <a:ext cx="914400" cy="914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207040" y="3048120"/>
                <a:ext cx="914400" cy="914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9" name=""/>
          <p:cNvGrpSpPr/>
          <p:nvPr/>
        </p:nvGrpSpPr>
        <p:grpSpPr>
          <a:xfrm>
            <a:off x="1906920" y="3238560"/>
            <a:ext cx="5757120" cy="520560"/>
            <a:chOff x="1906920" y="3238560"/>
            <a:chExt cx="5757120" cy="520560"/>
          </a:xfrm>
        </p:grpSpPr>
        <p:sp>
          <p:nvSpPr>
            <p:cNvPr id="700" name=""/>
            <p:cNvSpPr/>
            <p:nvPr/>
          </p:nvSpPr>
          <p:spPr>
            <a:xfrm>
              <a:off x="1906920" y="323856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634200" y="323856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361480" y="323856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88760" y="323856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2209680" y="2386080"/>
            <a:ext cx="2183760" cy="333360"/>
            <a:chOff x="2209680" y="2386080"/>
            <a:chExt cx="2183760" cy="333360"/>
          </a:xfrm>
        </p:grpSpPr>
        <p:sp>
          <p:nvSpPr>
            <p:cNvPr id="705" name=""/>
            <p:cNvSpPr/>
            <p:nvPr/>
          </p:nvSpPr>
          <p:spPr>
            <a:xfrm>
              <a:off x="2209680" y="2386080"/>
              <a:ext cx="685800" cy="333360"/>
            </a:xfrm>
            <a:prstGeom prst="rightArrow">
              <a:avLst>
                <a:gd name="adj1" fmla="val 50000"/>
                <a:gd name="adj2" fmla="val 5143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rot="10800000">
              <a:off x="3707280" y="2386080"/>
              <a:ext cx="685800" cy="333360"/>
            </a:xfrm>
            <a:prstGeom prst="rightArrow">
              <a:avLst>
                <a:gd name="adj1" fmla="val 50000"/>
                <a:gd name="adj2" fmla="val 5143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4211640" y="2057400"/>
            <a:ext cx="1447200" cy="990360"/>
            <a:chOff x="4211640" y="2057400"/>
            <a:chExt cx="1447200" cy="990360"/>
          </a:xfrm>
        </p:grpSpPr>
        <p:sp>
          <p:nvSpPr>
            <p:cNvPr id="708" name=""/>
            <p:cNvSpPr/>
            <p:nvPr/>
          </p:nvSpPr>
          <p:spPr>
            <a:xfrm>
              <a:off x="4394160" y="2057400"/>
              <a:ext cx="1143000" cy="9903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4211640" y="2390760"/>
              <a:ext cx="1447200" cy="333360"/>
              <a:chOff x="4211640" y="2390760"/>
              <a:chExt cx="1447200" cy="333360"/>
            </a:xfrm>
          </p:grpSpPr>
          <p:sp>
            <p:nvSpPr>
              <p:cNvPr id="710" name=""/>
              <p:cNvSpPr/>
              <p:nvPr/>
            </p:nvSpPr>
            <p:spPr>
              <a:xfrm>
                <a:off x="4211640" y="2390760"/>
                <a:ext cx="685800" cy="333360"/>
              </a:xfrm>
              <a:prstGeom prst="rightArrow">
                <a:avLst>
                  <a:gd name="adj1" fmla="val 50000"/>
                  <a:gd name="adj2" fmla="val 51431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 rot="10800000">
                <a:off x="4972680" y="2390760"/>
                <a:ext cx="685800" cy="333360"/>
              </a:xfrm>
              <a:prstGeom prst="rightArrow">
                <a:avLst>
                  <a:gd name="adj1" fmla="val 50000"/>
                  <a:gd name="adj2" fmla="val 51431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"/>
          <p:cNvSpPr/>
          <p:nvPr/>
        </p:nvSpPr>
        <p:spPr>
          <a:xfrm>
            <a:off x="518760" y="523800"/>
            <a:ext cx="40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 Mapeamento qualqu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"/>
          <p:cNvGrpSpPr/>
          <p:nvPr/>
        </p:nvGrpSpPr>
        <p:grpSpPr>
          <a:xfrm>
            <a:off x="1752480" y="3048120"/>
            <a:ext cx="6096240" cy="914400"/>
            <a:chOff x="1752480" y="3048120"/>
            <a:chExt cx="6096240" cy="914400"/>
          </a:xfrm>
        </p:grpSpPr>
        <p:sp>
          <p:nvSpPr>
            <p:cNvPr id="714" name=""/>
            <p:cNvSpPr/>
            <p:nvPr/>
          </p:nvSpPr>
          <p:spPr>
            <a:xfrm>
              <a:off x="2209680" y="3505320"/>
              <a:ext cx="518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1752480" y="3048120"/>
              <a:ext cx="6096240" cy="914400"/>
              <a:chOff x="1752480" y="3048120"/>
              <a:chExt cx="6096240" cy="914400"/>
            </a:xfrm>
          </p:grpSpPr>
          <p:sp>
            <p:nvSpPr>
              <p:cNvPr id="716" name=""/>
              <p:cNvSpPr/>
              <p:nvPr/>
            </p:nvSpPr>
            <p:spPr>
              <a:xfrm>
                <a:off x="6934320" y="3048120"/>
                <a:ext cx="914400" cy="914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479760" y="3048120"/>
                <a:ext cx="914400" cy="914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752480" y="3048120"/>
                <a:ext cx="914400" cy="914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207040" y="3048120"/>
                <a:ext cx="914400" cy="9144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1906920" y="3238560"/>
            <a:ext cx="5757120" cy="520560"/>
            <a:chOff x="1906920" y="3238560"/>
            <a:chExt cx="5757120" cy="520560"/>
          </a:xfrm>
        </p:grpSpPr>
        <p:sp>
          <p:nvSpPr>
            <p:cNvPr id="721" name=""/>
            <p:cNvSpPr/>
            <p:nvPr/>
          </p:nvSpPr>
          <p:spPr>
            <a:xfrm>
              <a:off x="1906920" y="323856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634200" y="323856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61480" y="323856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88760" y="323856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2209680" y="2666880"/>
            <a:ext cx="4114800" cy="333360"/>
            <a:chOff x="2209680" y="2666880"/>
            <a:chExt cx="4114800" cy="333360"/>
          </a:xfrm>
        </p:grpSpPr>
        <p:sp>
          <p:nvSpPr>
            <p:cNvPr id="726" name=""/>
            <p:cNvSpPr/>
            <p:nvPr/>
          </p:nvSpPr>
          <p:spPr>
            <a:xfrm>
              <a:off x="2209680" y="2666880"/>
              <a:ext cx="685800" cy="333360"/>
            </a:xfrm>
            <a:prstGeom prst="rightArrow">
              <a:avLst>
                <a:gd name="adj1" fmla="val 50000"/>
                <a:gd name="adj2" fmla="val 5143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962520" y="2666880"/>
              <a:ext cx="685800" cy="333360"/>
            </a:xfrm>
            <a:prstGeom prst="rightArrow">
              <a:avLst>
                <a:gd name="adj1" fmla="val 50000"/>
                <a:gd name="adj2" fmla="val 5143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638680" y="2666880"/>
              <a:ext cx="685800" cy="333360"/>
            </a:xfrm>
            <a:prstGeom prst="rightArrow">
              <a:avLst>
                <a:gd name="adj1" fmla="val 50000"/>
                <a:gd name="adj2" fmla="val 5143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505320" y="2666880"/>
            <a:ext cx="4114800" cy="333360"/>
            <a:chOff x="3505320" y="2666880"/>
            <a:chExt cx="4114800" cy="333360"/>
          </a:xfrm>
        </p:grpSpPr>
        <p:sp>
          <p:nvSpPr>
            <p:cNvPr id="730" name=""/>
            <p:cNvSpPr/>
            <p:nvPr/>
          </p:nvSpPr>
          <p:spPr>
            <a:xfrm>
              <a:off x="3505320" y="2666880"/>
              <a:ext cx="685800" cy="333360"/>
            </a:xfrm>
            <a:prstGeom prst="rightArrow">
              <a:avLst>
                <a:gd name="adj1" fmla="val 50000"/>
                <a:gd name="adj2" fmla="val 5143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8160" y="2666880"/>
              <a:ext cx="685800" cy="333360"/>
            </a:xfrm>
            <a:prstGeom prst="rightArrow">
              <a:avLst>
                <a:gd name="adj1" fmla="val 50000"/>
                <a:gd name="adj2" fmla="val 5143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34320" y="2666880"/>
              <a:ext cx="685800" cy="333360"/>
            </a:xfrm>
            <a:prstGeom prst="rightArrow">
              <a:avLst>
                <a:gd name="adj1" fmla="val 50000"/>
                <a:gd name="adj2" fmla="val 5143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746280" y="447840"/>
            <a:ext cx="38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eamento sem colis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4" name=""/>
          <p:cNvGraphicFramePr/>
          <p:nvPr/>
        </p:nvGraphicFramePr>
        <p:xfrm>
          <a:off x="1382760" y="1092240"/>
          <a:ext cx="6377040" cy="46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760" y="1092240"/>
                    <a:ext cx="637704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59364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dim : dimens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s : número de proc. em cada dimens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 : se cada dim. é periodica ou n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der : modifica o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 n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_car  : novo comunic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3280" y="609480"/>
            <a:ext cx="76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PI_CART_CREATE (comm, ndims, dims, perio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oder, comm_cart, ierr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 quem são seus vizinhos (rank_dest, rank_source) na direção di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7240" y="609480"/>
            <a:ext cx="774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PI_CART_ SHIFT(comm_cart, direct, disp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ank_source, rank_dest, ierr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652840" y="3774960"/>
            <a:ext cx="3838320" cy="1711440"/>
            <a:chOff x="2652840" y="3774960"/>
            <a:chExt cx="3838320" cy="1711440"/>
          </a:xfrm>
        </p:grpSpPr>
        <p:sp>
          <p:nvSpPr>
            <p:cNvPr id="741" name=""/>
            <p:cNvSpPr/>
            <p:nvPr/>
          </p:nvSpPr>
          <p:spPr>
            <a:xfrm>
              <a:off x="2743200" y="46101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43200" y="44197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229280" y="44197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15000" y="44197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329360" y="3774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52840" y="3774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05520" y="37749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327560" y="5181480"/>
              <a:ext cx="365040" cy="304920"/>
            </a:xfrm>
            <a:prstGeom prst="rightArrow">
              <a:avLst>
                <a:gd name="adj1" fmla="val 50000"/>
                <a:gd name="adj2" fmla="val 29929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848040" y="4267080"/>
              <a:ext cx="381240" cy="152640"/>
            </a:xfrm>
            <a:prstGeom prst="rightArrow">
              <a:avLst>
                <a:gd name="adj1" fmla="val 50000"/>
                <a:gd name="adj2" fmla="val 6244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92600" y="4267080"/>
              <a:ext cx="380880" cy="152640"/>
            </a:xfrm>
            <a:prstGeom prst="rightArrow">
              <a:avLst>
                <a:gd name="adj1" fmla="val 50000"/>
                <a:gd name="adj2" fmla="val 623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ngle Program Multiple 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PM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s realizam a mesma tarefa com diferentes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 processador precisa controlar alguns parâme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l para decomposição de domí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11840" y="2701800"/>
            <a:ext cx="4722120" cy="1120680"/>
            <a:chOff x="2211840" y="2701800"/>
            <a:chExt cx="4722120" cy="1120680"/>
          </a:xfrm>
        </p:grpSpPr>
        <p:sp>
          <p:nvSpPr>
            <p:cNvPr id="144" name=""/>
            <p:cNvSpPr/>
            <p:nvPr/>
          </p:nvSpPr>
          <p:spPr>
            <a:xfrm>
              <a:off x="4381560" y="270180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11840" y="3301920"/>
              <a:ext cx="472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dos podem conversar entre s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7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Virtual Mach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VM 3.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to conju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ory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nessee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ak Ridge National Lab. (ORN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çou em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ínio Público em 19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ão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ão 3.4 no começo de 199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amente difund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m encontros anuais de usuários do PVM na Europa e U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tivo principa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ção de sistemas distribuídos heterogên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.: coleção de diversas máquinas diferentes conectadas por diferentes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enciamento de proce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pdelos de programação master-s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empenho é secundá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5" name=""/>
          <p:cNvGraphicFramePr/>
          <p:nvPr/>
        </p:nvGraphicFramePr>
        <p:xfrm>
          <a:off x="1023840" y="1905120"/>
          <a:ext cx="709776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3840" y="1905120"/>
                    <a:ext cx="709776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"/>
          <p:cNvSpPr/>
          <p:nvPr/>
        </p:nvSpPr>
        <p:spPr>
          <a:xfrm>
            <a:off x="669960" y="523800"/>
            <a:ext cx="38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ção 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Heterogêne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erentes máquinas conectadas por diferentes tipos de re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ito de máquina vir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se fosse uma única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0" name=""/>
          <p:cNvGraphicFramePr/>
          <p:nvPr/>
        </p:nvGraphicFramePr>
        <p:xfrm>
          <a:off x="1708200" y="1025640"/>
          <a:ext cx="5729400" cy="48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025640"/>
                    <a:ext cx="5729400" cy="48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2" name=""/>
          <p:cNvGraphicFramePr/>
          <p:nvPr/>
        </p:nvGraphicFramePr>
        <p:xfrm>
          <a:off x="1219320" y="42840"/>
          <a:ext cx="7086600" cy="681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2840"/>
                    <a:ext cx="7086600" cy="68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acterísticas Sist. Heterogêne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quiteturas difer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ção dos dados difer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ução - conver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dade comput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rga comput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rga da R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ção, disputa pela largura de b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5562720" y="3733920"/>
            <a:ext cx="380880" cy="1066680"/>
          </a:xfrm>
          <a:custGeom>
            <a:avLst/>
            <a:gdLst>
              <a:gd name="textAreaLeft" fmla="*/ 243720 w 380880"/>
              <a:gd name="textAreaRight" fmla="*/ 38160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944680" y="3952800"/>
            <a:ext cx="28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balance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V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sto de duas 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em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vmd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blioteca de comun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em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ável pelo estabelecimento da máquina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da em cada máquina d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blioteca de comunica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nece as rotinas para a troca de mens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enciamento de proces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66840" y="17136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82640" y="2971800"/>
            <a:ext cx="609480" cy="609480"/>
            <a:chOff x="782640" y="2971800"/>
            <a:chExt cx="609480" cy="609480"/>
          </a:xfrm>
        </p:grpSpPr>
        <p:sp>
          <p:nvSpPr>
            <p:cNvPr id="148" name=""/>
            <p:cNvSpPr/>
            <p:nvPr/>
          </p:nvSpPr>
          <p:spPr>
            <a:xfrm>
              <a:off x="782640" y="2971800"/>
              <a:ext cx="609480" cy="609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7840" y="30780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176560" y="2971800"/>
            <a:ext cx="609480" cy="609480"/>
            <a:chOff x="2176560" y="2971800"/>
            <a:chExt cx="609480" cy="609480"/>
          </a:xfrm>
        </p:grpSpPr>
        <p:sp>
          <p:nvSpPr>
            <p:cNvPr id="151" name=""/>
            <p:cNvSpPr/>
            <p:nvPr/>
          </p:nvSpPr>
          <p:spPr>
            <a:xfrm>
              <a:off x="2176560" y="2971800"/>
              <a:ext cx="609480" cy="6094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91760" y="30780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570120" y="2971800"/>
            <a:ext cx="609480" cy="609480"/>
            <a:chOff x="3570120" y="2971800"/>
            <a:chExt cx="609480" cy="609480"/>
          </a:xfrm>
        </p:grpSpPr>
        <p:sp>
          <p:nvSpPr>
            <p:cNvPr id="154" name=""/>
            <p:cNvSpPr/>
            <p:nvPr/>
          </p:nvSpPr>
          <p:spPr>
            <a:xfrm>
              <a:off x="3570120" y="2971800"/>
              <a:ext cx="609480" cy="6094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85320" y="30780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964040" y="2971800"/>
            <a:ext cx="609480" cy="609480"/>
            <a:chOff x="4964040" y="2971800"/>
            <a:chExt cx="609480" cy="609480"/>
          </a:xfrm>
        </p:grpSpPr>
        <p:sp>
          <p:nvSpPr>
            <p:cNvPr id="157" name=""/>
            <p:cNvSpPr/>
            <p:nvPr/>
          </p:nvSpPr>
          <p:spPr>
            <a:xfrm>
              <a:off x="4964040" y="2971800"/>
              <a:ext cx="609480" cy="6094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9240" y="30780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357960" y="2971800"/>
            <a:ext cx="609480" cy="609480"/>
            <a:chOff x="6357960" y="2971800"/>
            <a:chExt cx="609480" cy="609480"/>
          </a:xfrm>
        </p:grpSpPr>
        <p:sp>
          <p:nvSpPr>
            <p:cNvPr id="160" name=""/>
            <p:cNvSpPr/>
            <p:nvPr/>
          </p:nvSpPr>
          <p:spPr>
            <a:xfrm>
              <a:off x="6357960" y="2971800"/>
              <a:ext cx="609480" cy="6094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3160" y="30780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7751880" y="2971800"/>
            <a:ext cx="609480" cy="609480"/>
            <a:chOff x="7751880" y="2971800"/>
            <a:chExt cx="609480" cy="609480"/>
          </a:xfrm>
        </p:grpSpPr>
        <p:sp>
          <p:nvSpPr>
            <p:cNvPr id="163" name=""/>
            <p:cNvSpPr/>
            <p:nvPr/>
          </p:nvSpPr>
          <p:spPr>
            <a:xfrm>
              <a:off x="7751880" y="2971800"/>
              <a:ext cx="609480" cy="6094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67080" y="30780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86480" y="3581280"/>
            <a:ext cx="6969240" cy="645840"/>
            <a:chOff x="1086480" y="3581280"/>
            <a:chExt cx="6969240" cy="645840"/>
          </a:xfrm>
        </p:grpSpPr>
        <p:cxnSp>
          <p:nvCxnSpPr>
            <p:cNvPr id="166" name=""/>
            <p:cNvCxnSpPr/>
            <p:nvPr/>
          </p:nvCxnSpPr>
          <p:spPr>
            <a:xfrm flipH="1" rot="16200000">
              <a:off x="1782720" y="2885040"/>
              <a:ext cx="2160" cy="1394280"/>
            </a:xfrm>
            <a:prstGeom prst="curvedConnector5">
              <a:avLst>
                <a:gd name="adj1" fmla="val 35880000"/>
                <a:gd name="adj2" fmla="val 50000"/>
                <a:gd name="adj3" fmla="val 35880000"/>
              </a:avLst>
            </a:prstGeom>
            <a:ln w="9360">
              <a:solidFill>
                <a:srgbClr val="ff0000"/>
              </a:solidFill>
              <a:miter/>
              <a:headEnd len="lg" type="triangle" w="med"/>
              <a:tailEnd len="lg" type="triangle" w="med"/>
            </a:ln>
          </p:spPr>
        </p:cxnSp>
        <p:cxnSp>
          <p:nvCxnSpPr>
            <p:cNvPr id="167" name=""/>
            <p:cNvCxnSpPr/>
            <p:nvPr/>
          </p:nvCxnSpPr>
          <p:spPr>
            <a:xfrm flipH="1" rot="16200000">
              <a:off x="3177360" y="2884680"/>
              <a:ext cx="2160" cy="1394640"/>
            </a:xfrm>
            <a:prstGeom prst="curvedConnector5">
              <a:avLst>
                <a:gd name="adj1" fmla="val 35880000"/>
                <a:gd name="adj2" fmla="val 49987"/>
                <a:gd name="adj3" fmla="val 35880000"/>
              </a:avLst>
            </a:prstGeom>
            <a:ln w="9360">
              <a:solidFill>
                <a:srgbClr val="ff0000"/>
              </a:solidFill>
              <a:miter/>
              <a:headEnd len="lg" type="triangle" w="med"/>
              <a:tailEnd len="lg" type="triangle" w="med"/>
            </a:ln>
          </p:spPr>
        </p:cxnSp>
        <p:cxnSp>
          <p:nvCxnSpPr>
            <p:cNvPr id="168" name=""/>
            <p:cNvCxnSpPr/>
            <p:nvPr/>
          </p:nvCxnSpPr>
          <p:spPr>
            <a:xfrm flipH="1" rot="16200000">
              <a:off x="4571280" y="2884680"/>
              <a:ext cx="2160" cy="1394640"/>
            </a:xfrm>
            <a:prstGeom prst="curvedConnector5">
              <a:avLst>
                <a:gd name="adj1" fmla="val 35880000"/>
                <a:gd name="adj2" fmla="val 49987"/>
                <a:gd name="adj3" fmla="val 35880000"/>
              </a:avLst>
            </a:prstGeom>
            <a:ln w="9360">
              <a:solidFill>
                <a:srgbClr val="ff0000"/>
              </a:solidFill>
              <a:miter/>
              <a:headEnd len="lg" type="triangle" w="med"/>
              <a:tailEnd len="lg" type="triangle" w="med"/>
            </a:ln>
          </p:spPr>
        </p:cxnSp>
        <p:cxnSp>
          <p:nvCxnSpPr>
            <p:cNvPr id="169" name=""/>
            <p:cNvCxnSpPr/>
            <p:nvPr/>
          </p:nvCxnSpPr>
          <p:spPr>
            <a:xfrm flipH="1" rot="16200000">
              <a:off x="5965200" y="2884680"/>
              <a:ext cx="2160" cy="1394640"/>
            </a:xfrm>
            <a:prstGeom prst="curvedConnector5">
              <a:avLst>
                <a:gd name="adj1" fmla="val 35880000"/>
                <a:gd name="adj2" fmla="val 49987"/>
                <a:gd name="adj3" fmla="val 35880000"/>
              </a:avLst>
            </a:prstGeom>
            <a:ln w="9360">
              <a:solidFill>
                <a:srgbClr val="ff0000"/>
              </a:solidFill>
              <a:miter/>
              <a:headEnd len="lg" type="triangle" w="med"/>
              <a:tailEnd len="lg" type="triangle" w="med"/>
            </a:ln>
          </p:spPr>
        </p:cxnSp>
        <p:cxnSp>
          <p:nvCxnSpPr>
            <p:cNvPr id="170" name=""/>
            <p:cNvCxnSpPr/>
            <p:nvPr/>
          </p:nvCxnSpPr>
          <p:spPr>
            <a:xfrm flipH="1" rot="16200000">
              <a:off x="7358040" y="2885040"/>
              <a:ext cx="2160" cy="1394280"/>
            </a:xfrm>
            <a:prstGeom prst="curvedConnector5">
              <a:avLst>
                <a:gd name="adj1" fmla="val 35880000"/>
                <a:gd name="adj2" fmla="val 50000"/>
                <a:gd name="adj3" fmla="val 35880000"/>
              </a:avLst>
            </a:prstGeom>
            <a:ln w="9360">
              <a:solidFill>
                <a:srgbClr val="ff0000"/>
              </a:solidFill>
              <a:miter/>
              <a:headEnd len="lg" type="triangle" w="med"/>
              <a:tailEnd len="lg" type="triangle" w="med"/>
            </a:ln>
          </p:spPr>
        </p:cxnSp>
      </p:grpSp>
      <p:sp>
        <p:nvSpPr>
          <p:cNvPr id="171" name=""/>
          <p:cNvSpPr/>
          <p:nvPr/>
        </p:nvSpPr>
        <p:spPr>
          <a:xfrm>
            <a:off x="3125520" y="434808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unicação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086840" y="750960"/>
            <a:ext cx="6969600" cy="2222640"/>
            <a:chOff x="1086840" y="750960"/>
            <a:chExt cx="6969600" cy="2222640"/>
          </a:xfrm>
        </p:grpSpPr>
        <p:grpSp>
          <p:nvGrpSpPr>
            <p:cNvPr id="173" name=""/>
            <p:cNvGrpSpPr/>
            <p:nvPr/>
          </p:nvGrpSpPr>
          <p:grpSpPr>
            <a:xfrm>
              <a:off x="1086840" y="1222200"/>
              <a:ext cx="6969600" cy="1751400"/>
              <a:chOff x="1086840" y="1222200"/>
              <a:chExt cx="6969600" cy="1751400"/>
            </a:xfrm>
          </p:grpSpPr>
          <p:cxnSp>
            <p:nvCxnSpPr>
              <p:cNvPr id="174" name=""/>
              <p:cNvCxnSpPr>
                <a:stCxn id="154" idx="0"/>
                <a:endCxn id="148" idx="0"/>
              </p:cNvCxnSpPr>
              <p:nvPr/>
            </p:nvCxnSpPr>
            <p:spPr>
              <a:xfrm rot="5400000">
                <a:off x="2479680" y="1578600"/>
                <a:ext cx="2160" cy="2788200"/>
              </a:xfrm>
              <a:prstGeom prst="curvedConnector5">
                <a:avLst>
                  <a:gd name="adj1" fmla="val -54000000"/>
                  <a:gd name="adj2" fmla="val 50000"/>
                  <a:gd name="adj3" fmla="val -540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5" name=""/>
              <p:cNvCxnSpPr>
                <a:stCxn id="154" idx="0"/>
                <a:endCxn id="151" idx="0"/>
              </p:cNvCxnSpPr>
              <p:nvPr/>
            </p:nvCxnSpPr>
            <p:spPr>
              <a:xfrm rot="5400000">
                <a:off x="3176640" y="2275560"/>
                <a:ext cx="2160" cy="1394640"/>
              </a:xfrm>
              <a:prstGeom prst="curvedConnector5">
                <a:avLst>
                  <a:gd name="adj1" fmla="val -26400000"/>
                  <a:gd name="adj2" fmla="val 49987"/>
                  <a:gd name="adj3" fmla="val -264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6" name=""/>
              <p:cNvCxnSpPr>
                <a:stCxn id="154" idx="0"/>
                <a:endCxn id="157" idx="0"/>
              </p:cNvCxnSpPr>
              <p:nvPr/>
            </p:nvCxnSpPr>
            <p:spPr>
              <a:xfrm flipH="1" rot="16200000">
                <a:off x="4571280" y="2275200"/>
                <a:ext cx="2160" cy="1394640"/>
              </a:xfrm>
              <a:prstGeom prst="curvedConnector5">
                <a:avLst>
                  <a:gd name="adj1" fmla="val -26400000"/>
                  <a:gd name="adj2" fmla="val 49987"/>
                  <a:gd name="adj3" fmla="val -264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7" name=""/>
              <p:cNvCxnSpPr>
                <a:stCxn id="154" idx="0"/>
                <a:endCxn id="160" idx="0"/>
              </p:cNvCxnSpPr>
              <p:nvPr/>
            </p:nvCxnSpPr>
            <p:spPr>
              <a:xfrm flipH="1" rot="16200000">
                <a:off x="5268240" y="1578240"/>
                <a:ext cx="2160" cy="2788560"/>
              </a:xfrm>
              <a:prstGeom prst="curvedConnector5">
                <a:avLst>
                  <a:gd name="adj1" fmla="val -52800000"/>
                  <a:gd name="adj2" fmla="val 49993"/>
                  <a:gd name="adj3" fmla="val -528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8" name=""/>
              <p:cNvCxnSpPr>
                <a:stCxn id="154" idx="0"/>
                <a:endCxn id="163" idx="0"/>
              </p:cNvCxnSpPr>
              <p:nvPr/>
            </p:nvCxnSpPr>
            <p:spPr>
              <a:xfrm flipH="1" rot="16200000">
                <a:off x="5964840" y="881640"/>
                <a:ext cx="2160" cy="4182120"/>
              </a:xfrm>
              <a:prstGeom prst="curvedConnector5">
                <a:avLst>
                  <a:gd name="adj1" fmla="val -97200000"/>
                  <a:gd name="adj2" fmla="val 50000"/>
                  <a:gd name="adj3" fmla="val -972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79" name=""/>
            <p:cNvSpPr/>
            <p:nvPr/>
          </p:nvSpPr>
          <p:spPr>
            <a:xfrm>
              <a:off x="4839480" y="750960"/>
              <a:ext cx="318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Comunicação Glob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ção da Máquina Vir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hecer as máquinas que fazem parte do seu sistema distribuí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e ou 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quite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VM e do seu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038480" y="50292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429000" y="565776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t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6" name=""/>
          <p:cNvGraphicFramePr/>
          <p:nvPr/>
        </p:nvGraphicFramePr>
        <p:xfrm>
          <a:off x="1774800" y="762120"/>
          <a:ext cx="5592960" cy="57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762120"/>
                    <a:ext cx="559296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"/>
          <p:cNvSpPr/>
          <p:nvPr/>
        </p:nvSpPr>
        <p:spPr>
          <a:xfrm>
            <a:off x="305640" y="30492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. Hostfile do P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arar 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am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PVM para formar sua máquina vir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tre-Escravo, host-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arar do console do PVM (pv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V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lha com o conceito de comunic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upos de proces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municações blo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so de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nver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itas cópias memória-a-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ção do desempe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.S.: não é exclusividade do PVM (MPI - L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in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ão 8 as rotima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cial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ectar o programa ao P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361240" y="37339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include 'fpvm3.h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3637080" y="3402000"/>
          <a:ext cx="1869840" cy="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7080" y="3402000"/>
                    <a:ext cx="1869840" cy="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8" name=""/>
          <p:cNvSpPr/>
          <p:nvPr/>
        </p:nvSpPr>
        <p:spPr>
          <a:xfrm>
            <a:off x="2268360" y="563868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call pvmfmytid( mytid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t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d = número do pro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ão é  0, 1, 2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tibilida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099440" y="4405320"/>
            <a:ext cx="694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do 10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 = 1, </a:t>
            </a:r>
            <a:r>
              <a:rPr b="0" lang="en-US" sz="2400" spc="-1" strike="noStrike">
                <a:solidFill>
                  <a:srgbClr val="006600"/>
                </a:solidFill>
                <a:latin typeface="Courier New"/>
              </a:rPr>
              <a:t>n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if (mytid .eq. </a:t>
            </a:r>
            <a:r>
              <a:rPr b="0" lang="en-US" sz="2400" spc="-1" strike="noStrike">
                <a:solidFill>
                  <a:srgbClr val="006600"/>
                </a:solidFill>
                <a:latin typeface="Courier New"/>
              </a:rPr>
              <a:t>Tids(I)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me =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10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ização do PV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436840" y="32767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call pvmfexit(info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ação de novos proces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ra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040" y="3459240"/>
            <a:ext cx="828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all pvmfspawn (code.name,flag, whe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ntask, tids, inf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.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e do códi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75720" y="685800"/>
            <a:ext cx="828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all pvmfspawn (code.name,flag, whe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ntask, tids, inf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1554120" y="4124160"/>
          <a:ext cx="6035760" cy="22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4124160"/>
                    <a:ext cx="6035760" cy="22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de vc quer disparar o pro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 do valor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l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úmero de proces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orna 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processo ou um vetor d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8040" y="685800"/>
            <a:ext cx="828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all pvmfspawn (code.name,flag, whe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ntask, tids, inf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2T14:49:58Z</dcterms:created>
  <dc:creator>Roberto de Beauclair Seixas</dc:creator>
  <dc:description/>
  <dc:language>en-US</dc:language>
  <cp:lastModifiedBy>Roberto de Beauclair Seixas</cp:lastModifiedBy>
  <cp:lastPrinted>1999-04-09T19:45:24Z</cp:lastPrinted>
  <dcterms:modified xsi:type="dcterms:W3CDTF">1999-04-23T12:30:46Z</dcterms:modified>
  <cp:revision>113</cp:revision>
  <dc:subject/>
  <dc:title>Introdução  à Computação Paralela</dc:title>
</cp:coreProperties>
</file>